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407-E5C8-4CA1-9116-65648A44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EA3C-8474-4DD8-AC97-8D1D41DB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9D0-BED2-4CBB-A543-31872C29B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F5F4-054F-4BDA-A018-3A6093009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FCC6CE-9DC4-4BDE-BABD-EB55E41DAA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A33ACC-E00F-4952-94C0-0F7B11DF4D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0E778-28CC-4022-A3B1-DE5DF433809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C974D-EFA9-4A9B-9906-68B6D39039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CF2062-B63C-443A-84BD-E2A97D0CD5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72048-98D2-4A57-BD8B-83908ED1AA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97AA13-34B1-4ECA-BAD6-265CC20A94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A6FB-F5C4-42FF-8D6A-2C0E6FD75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03133-3948-4465-9AA9-9C723D22CC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B5A17B-C9F6-4BA2-BC16-B1F4DBF113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FE59FA-3535-4007-B8DE-7A168D9AD3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7937A-650F-4190-B651-965DF24B655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448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95800" y="106668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52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448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95800" y="36936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CA99A-8D01-4CCA-9E64-16EC7BF8CB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6919-A99B-4136-9EF3-66211AE8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BEEA-7B56-41C4-A305-4E0CB264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DEDE-00D7-4FFD-A308-45B488D0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960" y="-115920"/>
            <a:ext cx="78483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4FD4-3F2C-460E-A9EC-C7094A88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EAE5-B0FC-47B0-A8D6-348DD274F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6936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9C0D-C117-43A7-9F30-0848201B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06668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6936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DED7-6154-4194-86ED-127F3E2D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5960" y="654012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E64F-FEF0-44DB-BD0B-2AF74924D792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048120" y="655308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315200" y="-1676520"/>
            <a:ext cx="2541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74D5-D4AB-49B2-A2AF-F3208AD2A3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971800" y="106668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-14400"/>
            <a:ext cx="9144000" cy="6886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4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570b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570b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B8F0-13DC-4605-99AE-2F6A1F5D1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 Unicode MS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bmpi.org/" TargetMode="External"/><Relationship Id="rId2" Type="http://schemas.openxmlformats.org/officeDocument/2006/relationships/hyperlink" Target="http://www.omg.org/docs/dtc/06-02-01.pdf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68bba"/>
                </a:solidFill>
                <a:latin typeface="Arial"/>
              </a:rPr>
              <a:t>BPMN</a:t>
            </a:r>
            <a:endParaRPr b="0" lang="en-US" sz="4800" spc="-1" strike="noStrike">
              <a:solidFill>
                <a:srgbClr val="568bb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0" y="28195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 Introduction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445600" y="63691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6677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b-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198108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1143000"/>
            <a:ext cx="472464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Sub-Process can be in an expanded form that shows the process details of the a lower-level set of activ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3095640" cy="47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619B-5D9C-45D3-A33B-7B2680445C5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3809880"/>
            <a:ext cx="88394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Sequence Flow is used to show the order that activities will be performed 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Message Flow is used to show the flow of messages between two entities that are prepared to send and receive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ssociation is used to associate information and artifacts with flow ob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705720" cy="26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F755-8438-4C39-A68F-FB56B5773F7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1480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ateways are modeling elements that are used to control how Sequence Flows interact as they converge and diverge within a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f the flow does not need to be controlled, then a Gateway is not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3344760" cy="303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DF98-1279-4B7D-AC93-B7F6E0A2FB2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6829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wimla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4191120"/>
            <a:ext cx="85341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Pool is a “swimlane” and a graphical container for partitioning a set of activities from other Pools, usually in the context of B2B situ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 Lane is a sub-partition within a Pool and will extend the entire length of the Pool, either vertically or horizont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00200" y="906480"/>
            <a:ext cx="5105520" cy="2903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7BB5-8032-426D-99BD-EFBB1E82077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682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ti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1280" y="1066680"/>
            <a:ext cx="487692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Data Objects are not flow objects (i.e., connected through Sequence Flow), but they do provide information about how documents, data, and other objects are used and updated within a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ext Annotations are a mechanism for a modeler to provide additional information for the reader of a BPMN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Groups provide a mechanism to visually organize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84240" y="1582560"/>
            <a:ext cx="1454040" cy="344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53CA-D20D-4899-B356-4BBA5880013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l F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8610480" cy="2179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FE93-D77F-4EC4-BF45-A761973A496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682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2B Mod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610480" cy="3894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28600" y="5562720"/>
            <a:ext cx="8458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Enhancements are being considered for BPMN 1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A81D-8CAA-4203-B489-F977F977F42B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6829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ption 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" y="1143000"/>
            <a:ext cx="5562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s attached to the boundary of an activity represent triggers that can interrupt the activ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ll work within the activity will be stopped and flow will proceed from the Ev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imer, Exceptions, Messages, etc. can be Trigg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019920" y="1666800"/>
            <a:ext cx="1471320" cy="13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685E-43C6-4B0C-9AD6-5D71729AF96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nsation Handling and Trans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219320"/>
            <a:ext cx="46483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Transaction is an activity that has a double border. Transactions are supported by a transaction protocol (e.g., WS-Transac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Normal Outgoing Sequence Flow represents the path to follow a successful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Cancel Intermediate Event represents the path to follow a cancelled comple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Exception Intermediate Event represents the path to follow a transaction haza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175f9e"/>
                </a:solidFill>
                <a:latin typeface="Arial"/>
              </a:rPr>
              <a:t>Activities used for compensate (with marker) are outside normal flow and are Associated normal activiti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" y="1268280"/>
            <a:ext cx="3867120" cy="42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6F25-2639-4B8B-AB78-D5F5C7C2832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omplex Pro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76320" y="1535040"/>
            <a:ext cx="8991360" cy="4332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B33F-FE2A-4C97-A909-E4705B5C537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finition of BP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usiness Process Modeling Notation provide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capability of defining and understanding their internal and external business procedures through a Business Process Dia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807b"/>
                </a:solidFill>
                <a:latin typeface="Arial"/>
                <a:ea typeface="Times New Roman"/>
              </a:rPr>
              <a:t>The ability to communicate these procedures in a standard manner.</a:t>
            </a:r>
            <a:r>
              <a:rPr b="0" lang="en-US" sz="2400" spc="-1" strike="noStrike">
                <a:solidFill>
                  <a:srgbClr val="7f807b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0EF2-BC33-497D-B139-5BF352989E4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I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cc"/>
                </a:solidFill>
                <a:uFillTx/>
                <a:latin typeface="Arial"/>
                <a:hlinkClick r:id="rId1"/>
              </a:rPr>
              <a:t>www.bmpi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pecification </a:t>
            </a:r>
            <a:r>
              <a:rPr b="0" lang="en-US" sz="2800" spc="-1" strike="noStrike" u="sng">
                <a:solidFill>
                  <a:srgbClr val="cccccc"/>
                </a:solidFill>
                <a:uFillTx/>
                <a:latin typeface="Arial"/>
                <a:hlinkClick r:id="rId2"/>
              </a:rPr>
              <a:t>http://www.omg.org/docs/dtc/06-02-01.pdf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BPMN stencil for Visio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in ISIS: BPMN 0-9-V2003.v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lnSpc>
                <a:spcPct val="120000"/>
              </a:lnSpc>
              <a:spcBef>
                <a:spcPts val="700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nterprise Architect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5637-2F5D-4EDE-A94E-1C908650F8A9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Set of Diagram El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981080"/>
            <a:ext cx="4267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Core set of modeling elements enables the easy development of simple Business Process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Looks familiar to most Business Analysts (flowchart dia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069920" y="1878120"/>
            <a:ext cx="2587680" cy="26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5D52-52E0-4FF2-A9F3-B8975804E24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Event triggers a process: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hould have at least one ev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Sequenc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in the same swim lane (see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75f9e"/>
                </a:solidFill>
                <a:latin typeface="Arial"/>
              </a:rPr>
              <a:t>Message flow links: </a:t>
            </a:r>
            <a:endParaRPr b="0" lang="en-US" sz="28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ies between teams so swim lan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342E-63C6-4A60-9EBB-23EEF2CEA3C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1219320"/>
            <a:ext cx="487692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Event is something that “happens” during the course of a business 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affect the flow of the Process and usually have a trigger or a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Events can start, interrupt, or end the f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3282840" cy="4953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5EB1-367A-46FD-86B4-23D388C1809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5029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Intermediate Events: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an exception or compensation handl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n by placing the Intermediate Event on the boundary of a Task or Sub-Pro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timer exp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5880" y="1905120"/>
          <a:ext cx="195588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905120"/>
                    <a:ext cx="195588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105B-31E2-4EFC-922D-9711137558B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Intermediate event types indicate the different ways that a Process may be interrupted or delayed after it has started. </a:t>
            </a: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75f9e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Compensation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for compensation handling--both setting and performing compensation. It call for compensation if the Event is part of a Normal Flow. It reacts to a named compensation call when attached to the boundary of an activity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Ru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only used for exception handling. This type of event is triggered when a Rule becomes true. Link Ev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228600" y="24382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382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228600" y="425304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25304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FE45-F611-4869-BDD5-AC8660BC615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960" y="-115920"/>
            <a:ext cx="78483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IS guid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6781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8580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Link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nk is a mechanism for connecting an End Event (Result) of one Process to an Intermediate Event (Trigger) in another Process. Paired Intermediate Events can also be used as “Go To” objects within a Proces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960"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75f9e"/>
                </a:solidFill>
                <a:latin typeface="Arial"/>
              </a:rPr>
              <a:t>Multiple Event</a:t>
            </a:r>
            <a:endParaRPr b="0" lang="en-US" sz="2500" spc="-1" strike="noStrike">
              <a:solidFill>
                <a:srgbClr val="175f9e"/>
              </a:solidFill>
              <a:latin typeface="Arial"/>
            </a:endParaRPr>
          </a:p>
          <a:p>
            <a:pPr lvl="1" marL="6858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means that there are multiple ways of triggering the Event. Only one of them will be required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7200" y="1523880"/>
          <a:ext cx="318960" cy="3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318960" cy="3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57200" y="3276720"/>
          <a:ext cx="318960" cy="31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276720"/>
                    <a:ext cx="318960" cy="3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31B-E2C3-4C79-9F61-1CE45BECF84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6677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562720" y="1447920"/>
            <a:ext cx="3352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is work that is performed within a business proces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An activity can be atomic or non-atomic (compoun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175f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75f9e"/>
                </a:solidFill>
                <a:latin typeface="Arial"/>
              </a:rPr>
              <a:t>The types of activities that are a part of a Process Model are: Process, Sub-Process, and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5064120" cy="33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©  ILOG, All Rights Reserve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2225-C439-4C23-9B53-6A161A31337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8T18:27:15Z</dcterms:created>
  <dc:creator>jboyer</dc:creator>
  <dc:description/>
  <dc:language>en-US</dc:language>
  <cp:lastModifiedBy>Julio Prez</cp:lastModifiedBy>
  <dcterms:modified xsi:type="dcterms:W3CDTF">2008-12-17T13:17:42Z</dcterms:modified>
  <cp:revision>24</cp:revision>
  <dc:subject/>
  <dc:title>BPMN</dc:title>
</cp:coreProperties>
</file>