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9778E2-274A-43A4-AFA3-742C1D75F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F157F-2C6D-4281-A582-6EB7134A38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A0979-951B-4903-97FB-946076953F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D2AA0-1335-4337-A678-D6D6F6021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2D149-7E87-47BD-9672-9D46452D92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D8B7F-D3A4-4902-93BA-2374DB6F82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0AD0C-58E4-460E-A1EB-9A1359D6AB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6D3E6-8614-4432-B250-5B4F2D6A6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F55E6-67E6-4AC3-969A-7D3486589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628D4-38CB-47F7-A3A8-73A33D323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921AD-00E4-4A35-A70F-4DFF267F74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C7B5-B45B-48BE-BBE9-0EC90DE4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4E68-F939-4A53-BC56-E47A35E4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8912-1DEC-4A1E-8834-41CE98AC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EE3A-0A31-4B6D-8900-70535EFC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E347-C368-4196-AD4C-D096CAD3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6595-480A-4D68-86E1-0431CBF5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66F7-E8E2-4A8F-BFDE-F5C55739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C4D2-BEC5-43F0-A4F7-6E4959CC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BAC0-9434-4402-A97E-81738FD1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7584-95C0-47D0-B161-3C77471C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4D18-20C9-43E8-8A55-D0F29F880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E7BF-EE97-4342-BE50-D48641F91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c0c0c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3" descr="ibm_white_logo_300dpi"/>
          <p:cNvPicPr/>
          <p:nvPr/>
        </p:nvPicPr>
        <p:blipFill>
          <a:blip r:embed="rId2"/>
          <a:srcRect l="0" t="0" r="6479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1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57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416320" y="6643800"/>
            <a:ext cx="4039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IBM AND BIG BOX COMPANY CONFIDENTIAL – FOR INTERNAL USE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8"/>
          <p:cNvSpPr/>
          <p:nvPr/>
        </p:nvSpPr>
        <p:spPr>
          <a:xfrm flipH="1">
            <a:off x="0" y="57636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 flipH="1">
            <a:off x="0" y="647712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82440" y="6643800"/>
            <a:ext cx="12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June 15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7113600" y="6643800"/>
            <a:ext cx="172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age </a:t>
            </a:r>
            <a:fld id="{9D88B618-C236-4A36-9089-F27FB5D39CE4}" type="slidenum">
              <a:rPr b="1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229600" y="1522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7680" y="20016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2625840" y="6643800"/>
            <a:ext cx="4116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IBM AND BIG BOX COMPANY CONFIDENTIAL – FOR INTERNAL USE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 flipH="1">
            <a:off x="0" y="57636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H="1">
            <a:off x="0" y="647712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82440" y="6643800"/>
            <a:ext cx="12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June 15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7113600" y="6643800"/>
            <a:ext cx="172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age </a:t>
            </a:r>
            <a:fld id="{FC5DF0F3-5B62-4D59-8182-9C20FABF56D7}" type="slidenum">
              <a:rPr b="1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229600" y="1522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CF59-080B-40AE-B186-15B2BDD794F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7680" y="20016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g Box Company Software Development Lifecycle Assess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ndings and Recommend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une 15,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c0c0c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3" descr="ibm_white_logo_300dpi"/>
          <p:cNvPicPr/>
          <p:nvPr/>
        </p:nvPicPr>
        <p:blipFill>
          <a:blip r:embed="rId1"/>
          <a:srcRect l="0" t="0" r="6479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1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3360" y="542880"/>
            <a:ext cx="26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’s Working 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28600" y="1456920"/>
            <a:ext cx="87631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rrent process provides valuable checkpo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tional focus on tes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ckets of good practices for requirements definition, architecture, quality and supporting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itment to follow the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rly prototyping supports requirements visu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ginning to enable data govern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presentative Challe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68120" y="892080"/>
            <a:ext cx="87631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iming, Accountability and Collaboration between Business and IT needs to be optimiz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Definitions techniques are applied inconsistent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Inflexible application of SDLC and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Gating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ccess and identification of reusable content is limi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Manually intensive software development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lack enough detail for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r test is incomple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est Cases are not consistently tra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Builds are manual and inconsis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rchitecture Governance stops at Gate 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438120" y="973080"/>
            <a:ext cx="43052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)  Timing, Accountability and Collaboration between Business and IT needs to be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consistent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4"/>
          <p:cNvSpPr/>
          <p:nvPr/>
        </p:nvSpPr>
        <p:spPr>
          <a:xfrm>
            <a:off x="406440" y="3600360"/>
            <a:ext cx="42624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)  Requirements Definitions techniques are applied inconsist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ide variation in us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834080" y="738360"/>
            <a:ext cx="4047840" cy="2657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767120" y="3352680"/>
            <a:ext cx="4105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34"/>
          <p:cNvSpPr/>
          <p:nvPr/>
        </p:nvSpPr>
        <p:spPr>
          <a:xfrm>
            <a:off x="406440" y="3600360"/>
            <a:ext cx="42624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)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ccess and identification of reusable content is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oject-centric 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471600" y="911160"/>
            <a:ext cx="42624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flexible application of SDLC and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at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mpacts ability to respond t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962600" y="747720"/>
            <a:ext cx="4019400" cy="2905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943520" y="3676680"/>
            <a:ext cx="40482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6"/>
          <p:cNvSpPr/>
          <p:nvPr/>
        </p:nvSpPr>
        <p:spPr>
          <a:xfrm>
            <a:off x="406440" y="3600360"/>
            <a:ext cx="4221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6)  Requirements lack enough detail for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dditional work rather then using current arti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415800" y="871560"/>
            <a:ext cx="42213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nually intensive software developmen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automation an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800600" y="733320"/>
            <a:ext cx="4095720" cy="28767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819680" y="3695760"/>
            <a:ext cx="41814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6"/>
          <p:cNvSpPr/>
          <p:nvPr/>
        </p:nvSpPr>
        <p:spPr>
          <a:xfrm>
            <a:off x="406440" y="3600360"/>
            <a:ext cx="422100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8)  Test Cases are not consistently tr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all test cases traced to original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438120" y="973080"/>
            <a:ext cx="42339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7)  Developer test is in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imited implementation of test frameworks and buil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767120" y="766800"/>
            <a:ext cx="4124520" cy="2809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767120" y="3662280"/>
            <a:ext cx="406728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33"/>
          <p:cNvSpPr/>
          <p:nvPr/>
        </p:nvSpPr>
        <p:spPr>
          <a:xfrm>
            <a:off x="189360" y="973080"/>
            <a:ext cx="4733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9)  Builds are manual and inconsis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Very early adoption with build 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4"/>
          <p:cNvSpPr/>
          <p:nvPr/>
        </p:nvSpPr>
        <p:spPr>
          <a:xfrm>
            <a:off x="406440" y="3600360"/>
            <a:ext cx="4221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rchitecture Governance stops at Gate 2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ed on infrastructure and not verified during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5872320" y="6168960"/>
            <a:ext cx="984240" cy="23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76092"/>
                </a:solidFill>
                <a:latin typeface="Arial"/>
              </a:rPr>
              <a:t>Repeat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038560" y="671400"/>
            <a:ext cx="3867480" cy="28479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948200" y="3591000"/>
            <a:ext cx="40100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2"/>
          <p:cNvSpPr/>
          <p:nvPr/>
        </p:nvSpPr>
        <p:spPr>
          <a:xfrm>
            <a:off x="419040" y="639720"/>
            <a:ext cx="8215200" cy="5351400"/>
          </a:xfrm>
          <a:prstGeom prst="rect">
            <a:avLst/>
          </a:prstGeom>
          <a:gradFill rotWithShape="0">
            <a:gsLst>
              <a:gs pos="0">
                <a:srgbClr val="243559"/>
              </a:gs>
              <a:gs pos="100000">
                <a:srgbClr val="66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3"/>
          <p:cNvSpPr/>
          <p:nvPr/>
        </p:nvSpPr>
        <p:spPr>
          <a:xfrm>
            <a:off x="623880" y="812880"/>
            <a:ext cx="809784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17320" y="-360"/>
            <a:ext cx="846756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ptions:  Effort vs. Valu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463680" y="615312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Effort to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 rot="16200000">
            <a:off x="-1310040" y="4424760"/>
            <a:ext cx="31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Potential Busines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4"/>
          <p:cNvSpPr/>
          <p:nvPr/>
        </p:nvSpPr>
        <p:spPr>
          <a:xfrm>
            <a:off x="4840200" y="1406520"/>
            <a:ext cx="878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g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sourc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ar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4"/>
          <p:cNvSpPr/>
          <p:nvPr/>
        </p:nvSpPr>
        <p:spPr>
          <a:xfrm>
            <a:off x="2039760" y="2390760"/>
            <a:ext cx="15242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quirements Management &amp; Com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ce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3"/>
          <p:cNvSpPr/>
          <p:nvPr/>
        </p:nvSpPr>
        <p:spPr>
          <a:xfrm>
            <a:off x="5634000" y="1430280"/>
            <a:ext cx="1346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Involve all in development of detailed design and 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4"/>
          <p:cNvSpPr/>
          <p:nvPr/>
        </p:nvSpPr>
        <p:spPr>
          <a:xfrm>
            <a:off x="7297560" y="277164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Establish hardware testing su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5"/>
          <p:cNvSpPr/>
          <p:nvPr/>
        </p:nvSpPr>
        <p:spPr>
          <a:xfrm>
            <a:off x="3106800" y="1589040"/>
            <a:ext cx="99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evelop automated testing su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4"/>
          <p:cNvSpPr/>
          <p:nvPr/>
        </p:nvSpPr>
        <p:spPr>
          <a:xfrm>
            <a:off x="1125360" y="326556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rchitectural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4"/>
          <p:cNvSpPr/>
          <p:nvPr/>
        </p:nvSpPr>
        <p:spPr>
          <a:xfrm>
            <a:off x="4173480" y="334152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4"/>
          <p:cNvSpPr/>
          <p:nvPr/>
        </p:nvSpPr>
        <p:spPr>
          <a:xfrm>
            <a:off x="1887480" y="15890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utom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il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5"/>
          <p:cNvSpPr/>
          <p:nvPr/>
        </p:nvSpPr>
        <p:spPr>
          <a:xfrm>
            <a:off x="973080" y="1589040"/>
            <a:ext cx="17524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evel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Unit Tes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4"/>
          <p:cNvSpPr/>
          <p:nvPr/>
        </p:nvSpPr>
        <p:spPr>
          <a:xfrm>
            <a:off x="2344680" y="33415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ailo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4"/>
          <p:cNvSpPr/>
          <p:nvPr/>
        </p:nvSpPr>
        <p:spPr>
          <a:xfrm>
            <a:off x="3335400" y="31129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ocess 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4"/>
          <p:cNvSpPr/>
          <p:nvPr/>
        </p:nvSpPr>
        <p:spPr>
          <a:xfrm>
            <a:off x="3564000" y="15127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nsisten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9"/>
          <p:cNvSpPr/>
          <p:nvPr/>
        </p:nvSpPr>
        <p:spPr>
          <a:xfrm>
            <a:off x="1582560" y="30369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37"/>
          <p:cNvSpPr/>
          <p:nvPr/>
        </p:nvSpPr>
        <p:spPr>
          <a:xfrm>
            <a:off x="143028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38"/>
          <p:cNvSpPr/>
          <p:nvPr/>
        </p:nvSpPr>
        <p:spPr>
          <a:xfrm>
            <a:off x="21924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1"/>
          <p:cNvSpPr/>
          <p:nvPr/>
        </p:nvSpPr>
        <p:spPr>
          <a:xfrm>
            <a:off x="3106800" y="311292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2"/>
          <p:cNvSpPr/>
          <p:nvPr/>
        </p:nvSpPr>
        <p:spPr>
          <a:xfrm>
            <a:off x="2344680" y="21225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3"/>
          <p:cNvSpPr/>
          <p:nvPr/>
        </p:nvSpPr>
        <p:spPr>
          <a:xfrm>
            <a:off x="3411360" y="12081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44"/>
          <p:cNvSpPr/>
          <p:nvPr/>
        </p:nvSpPr>
        <p:spPr>
          <a:xfrm>
            <a:off x="524016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46"/>
          <p:cNvSpPr/>
          <p:nvPr/>
        </p:nvSpPr>
        <p:spPr>
          <a:xfrm>
            <a:off x="47829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7"/>
          <p:cNvSpPr/>
          <p:nvPr/>
        </p:nvSpPr>
        <p:spPr>
          <a:xfrm>
            <a:off x="60786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4"/>
          <p:cNvSpPr/>
          <p:nvPr/>
        </p:nvSpPr>
        <p:spPr>
          <a:xfrm>
            <a:off x="7437600" y="1473120"/>
            <a:ext cx="1126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Pilot incremental and  iterative delivery (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51"/>
          <p:cNvSpPr/>
          <p:nvPr/>
        </p:nvSpPr>
        <p:spPr>
          <a:xfrm>
            <a:off x="8136000" y="12081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53"/>
          <p:cNvSpPr/>
          <p:nvPr/>
        </p:nvSpPr>
        <p:spPr>
          <a:xfrm>
            <a:off x="8967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5"/>
          <p:cNvSpPr/>
          <p:nvPr/>
        </p:nvSpPr>
        <p:spPr>
          <a:xfrm>
            <a:off x="592200" y="3341520"/>
            <a:ext cx="990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Arc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Self-Aud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5"/>
          <p:cNvSpPr/>
          <p:nvPr/>
        </p:nvSpPr>
        <p:spPr>
          <a:xfrm>
            <a:off x="6840360" y="21985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4"/>
          <p:cNvSpPr/>
          <p:nvPr/>
        </p:nvSpPr>
        <p:spPr>
          <a:xfrm>
            <a:off x="6078600" y="2427120"/>
            <a:ext cx="160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terprise A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gmt 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9"/>
          <p:cNvSpPr/>
          <p:nvPr/>
        </p:nvSpPr>
        <p:spPr>
          <a:xfrm>
            <a:off x="42498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60"/>
          <p:cNvSpPr/>
          <p:nvPr/>
        </p:nvSpPr>
        <p:spPr>
          <a:xfrm>
            <a:off x="280188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2192400" y="15890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har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4"/>
          <p:cNvSpPr/>
          <p:nvPr/>
        </p:nvSpPr>
        <p:spPr>
          <a:xfrm>
            <a:off x="5043600" y="4695840"/>
            <a:ext cx="3422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includes right-timing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includes shared view of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64"/>
          <p:cNvSpPr/>
          <p:nvPr/>
        </p:nvSpPr>
        <p:spPr>
          <a:xfrm flipH="1">
            <a:off x="4649760" y="816120"/>
            <a:ext cx="1440" cy="519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66"/>
          <p:cNvSpPr/>
          <p:nvPr/>
        </p:nvSpPr>
        <p:spPr>
          <a:xfrm>
            <a:off x="649440" y="4522680"/>
            <a:ext cx="8001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"/>
          <p:cNvSpPr/>
          <p:nvPr/>
        </p:nvSpPr>
        <p:spPr>
          <a:xfrm rot="16200000">
            <a:off x="-159840" y="5133600"/>
            <a:ext cx="197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w to Me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4"/>
          <p:cNvSpPr/>
          <p:nvPr/>
        </p:nvSpPr>
        <p:spPr>
          <a:xfrm rot="16200000">
            <a:off x="-313560" y="1863000"/>
            <a:ext cx="228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dium   to Very  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71"/>
          <p:cNvSpPr/>
          <p:nvPr/>
        </p:nvSpPr>
        <p:spPr>
          <a:xfrm>
            <a:off x="4782960" y="387504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4"/>
          <p:cNvSpPr/>
          <p:nvPr/>
        </p:nvSpPr>
        <p:spPr>
          <a:xfrm>
            <a:off x="4173480" y="40784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4"/>
          <p:cNvSpPr/>
          <p:nvPr/>
        </p:nvSpPr>
        <p:spPr>
          <a:xfrm>
            <a:off x="5621400" y="31129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terprise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74"/>
          <p:cNvSpPr/>
          <p:nvPr/>
        </p:nvSpPr>
        <p:spPr>
          <a:xfrm>
            <a:off x="6078600" y="28843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75"/>
          <p:cNvSpPr/>
          <p:nvPr/>
        </p:nvSpPr>
        <p:spPr>
          <a:xfrm>
            <a:off x="54687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4"/>
          <p:cNvSpPr/>
          <p:nvPr/>
        </p:nvSpPr>
        <p:spPr>
          <a:xfrm>
            <a:off x="4782960" y="330660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etr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4"/>
          <p:cNvSpPr/>
          <p:nvPr/>
        </p:nvSpPr>
        <p:spPr>
          <a:xfrm>
            <a:off x="2725560" y="250344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81"/>
          <p:cNvSpPr/>
          <p:nvPr/>
        </p:nvSpPr>
        <p:spPr>
          <a:xfrm>
            <a:off x="3335400" y="227484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55"/>
          <p:cNvSpPr/>
          <p:nvPr/>
        </p:nvSpPr>
        <p:spPr>
          <a:xfrm flipV="1">
            <a:off x="2619360" y="6345360"/>
            <a:ext cx="46404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54"/>
          <p:cNvSpPr/>
          <p:nvPr/>
        </p:nvSpPr>
        <p:spPr>
          <a:xfrm>
            <a:off x="7645320" y="244152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Straight Arrow Connector 57"/>
          <p:cNvCxnSpPr/>
          <p:nvPr/>
        </p:nvCxnSpPr>
        <p:spPr>
          <a:xfrm flipV="1">
            <a:off x="290880" y="880200"/>
            <a:ext cx="2520" cy="225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Oval 56"/>
          <p:cNvSpPr/>
          <p:nvPr/>
        </p:nvSpPr>
        <p:spPr>
          <a:xfrm>
            <a:off x="4030560" y="283680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58"/>
          <p:cNvSpPr/>
          <p:nvPr/>
        </p:nvSpPr>
        <p:spPr>
          <a:xfrm>
            <a:off x="5106960" y="538020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71"/>
          <p:cNvSpPr/>
          <p:nvPr/>
        </p:nvSpPr>
        <p:spPr>
          <a:xfrm>
            <a:off x="5095800" y="56973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4"/>
          <p:cNvSpPr/>
          <p:nvPr/>
        </p:nvSpPr>
        <p:spPr>
          <a:xfrm>
            <a:off x="5396040" y="5595840"/>
            <a:ext cx="34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addresses other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4"/>
          <p:cNvSpPr/>
          <p:nvPr/>
        </p:nvSpPr>
        <p:spPr>
          <a:xfrm>
            <a:off x="5396040" y="5359320"/>
            <a:ext cx="34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addresses top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38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tential Inhibitors to Adop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666720" y="942840"/>
          <a:ext cx="7991640" cy="5077080"/>
        </p:xfrm>
        <a:graphic>
          <a:graphicData uri="http://schemas.openxmlformats.org/drawingml/2006/table">
            <a:tbl>
              <a:tblPr/>
              <a:tblGrid>
                <a:gridCol w="3995640"/>
                <a:gridCol w="399600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hibi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tigation 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ficulty accepting alternative forms of documentation and development and/or agile pract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ining and knowledge trans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lot projects with alternative development approach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ceived initial impact of recommendations on program  and project time and 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sure visible sponsorsh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formance goals related to adoption of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ect a learning cur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/IT Collabo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ve to shared business and IT ownership of 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xt Steps…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2826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4"/>
          <p:cNvSpPr/>
          <p:nvPr/>
        </p:nvSpPr>
        <p:spPr>
          <a:xfrm>
            <a:off x="6210360" y="762120"/>
            <a:ext cx="2819520" cy="53496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5349600"/>
              <a:gd name="textAreaBottom" fmla="*/ 5349960 h 534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ef99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4586400" y="762120"/>
            <a:ext cx="2563560" cy="5333760"/>
          </a:xfrm>
          <a:custGeom>
            <a:avLst/>
            <a:gdLst>
              <a:gd name="textAreaLeft" fmla="*/ 0 w 2563560"/>
              <a:gd name="textAreaRight" fmla="*/ 2563920 w 2563560"/>
              <a:gd name="textAreaTop" fmla="*/ 0 h 5333760"/>
              <a:gd name="textAreaBottom" fmla="*/ 533412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ce0ba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6"/>
          <p:cNvSpPr/>
          <p:nvPr/>
        </p:nvSpPr>
        <p:spPr>
          <a:xfrm>
            <a:off x="2720880" y="822240"/>
            <a:ext cx="2590920" cy="534996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5349960"/>
              <a:gd name="textAreaBottom" fmla="*/ 5350320 h 53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99">
                  <a:alpha val="7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352440" y="822240"/>
            <a:ext cx="2673360" cy="534996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5349960"/>
              <a:gd name="textAreaBottom" fmla="*/ 5350320 h 53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0a9fa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6834240" y="1066680"/>
            <a:ext cx="13730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Communic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615960" y="1066680"/>
            <a:ext cx="10285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admap Worksho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2901960" y="1063800"/>
            <a:ext cx="10936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inalize 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5054760" y="1066680"/>
            <a:ext cx="11538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Executiv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-495360" y="2071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739800" y="230184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ize option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admap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689040" y="205740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March 31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st</a:t>
            </a: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736560" y="347508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to Deliver Draf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714240" y="323064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6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3178080" y="260676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feed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IBM on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 &amp;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3051000" y="2362320"/>
            <a:ext cx="1422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10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3178080" y="385596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ver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3178080" y="358128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16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663480" y="42829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Review of Draf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 &amp;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689040" y="405432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8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535932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xecu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evi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5203800" y="283356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20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713088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Next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Participan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am,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7000920" y="281952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Late Apri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7"/>
          <p:cNvSpPr/>
          <p:nvPr/>
        </p:nvSpPr>
        <p:spPr>
          <a:xfrm>
            <a:off x="7710480" y="6194520"/>
            <a:ext cx="303120" cy="129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7957080" y="6126120"/>
            <a:ext cx="99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ive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7256520" y="6091200"/>
            <a:ext cx="51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914040"/>
            <a:ext cx="841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g Box Company Assessment Foc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vey vs. Interview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’s Working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ative Challe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ons:  Effort vs.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Inhibitors to Ad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sessment Fo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25520" y="1260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pportunities to help Big Box Company balance speed to market with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 where  Big Box Company performs relative to modern software development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pportunities for improvements in SDLC and establish an actionable roadm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54080" y="62244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328680" y="1014480"/>
            <a:ext cx="853416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107000"/>
              </a:lnSpc>
              <a:spcBef>
                <a:spcPts val="751"/>
              </a:spcBef>
              <a:spcAft>
                <a:spcPts val="451"/>
              </a:spcAft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5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92240" y="930240"/>
            <a:ext cx="326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BM  Assessment offers a structured approach to help teams measure and iteratively improve the business process of software delivery using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rvey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view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lected Artifact Revie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dings and Recommend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oad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-6480" y="5684760"/>
            <a:ext cx="9141120" cy="900360"/>
          </a:xfrm>
          <a:prstGeom prst="rect">
            <a:avLst/>
          </a:prstGeom>
          <a:gradFill rotWithShape="0">
            <a:gsLst>
              <a:gs pos="0">
                <a:srgbClr val="a9e4f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200" y="5713560"/>
            <a:ext cx="766260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f82"/>
                </a:solidFill>
                <a:latin typeface="Arial"/>
              </a:rPr>
              <a:t>Empower teams to measure, manage and incrementally improve their software delivery capabil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4168800" y="752400"/>
            <a:ext cx="3906720" cy="4963320"/>
            <a:chOff x="4168800" y="752400"/>
            <a:chExt cx="3906720" cy="4963320"/>
          </a:xfrm>
        </p:grpSpPr>
        <p:sp>
          <p:nvSpPr>
            <p:cNvPr id="159" name="Freeform 7"/>
            <p:cNvSpPr/>
            <p:nvPr/>
          </p:nvSpPr>
          <p:spPr>
            <a:xfrm>
              <a:off x="4174920" y="2466720"/>
              <a:ext cx="2748240" cy="3070440"/>
            </a:xfrm>
            <a:prstGeom prst="pie">
              <a:avLst/>
            </a:prstGeom>
            <a:noFill/>
            <a:ln w="12600">
              <a:solidFill>
                <a:srgbClr val="00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8"/>
            <p:cNvSpPr/>
            <p:nvPr/>
          </p:nvSpPr>
          <p:spPr>
            <a:xfrm>
              <a:off x="5343480" y="1057320"/>
              <a:ext cx="23814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Picture 9" descr="Sphere3"/>
            <p:cNvPicPr/>
            <p:nvPr/>
          </p:nvPicPr>
          <p:blipFill>
            <a:blip r:embed="rId1"/>
            <a:stretch/>
          </p:blipFill>
          <p:spPr>
            <a:xfrm>
              <a:off x="4168800" y="75240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AutoShape 10"/>
            <p:cNvSpPr/>
            <p:nvPr/>
          </p:nvSpPr>
          <p:spPr>
            <a:xfrm>
              <a:off x="5383080" y="2173320"/>
              <a:ext cx="23796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1"/>
            <p:cNvSpPr/>
            <p:nvPr/>
          </p:nvSpPr>
          <p:spPr>
            <a:xfrm>
              <a:off x="5383080" y="3333600"/>
              <a:ext cx="2379600" cy="611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12"/>
            <p:cNvSpPr/>
            <p:nvPr/>
          </p:nvSpPr>
          <p:spPr>
            <a:xfrm>
              <a:off x="5383080" y="4440240"/>
              <a:ext cx="23796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5440320" y="1112760"/>
              <a:ext cx="234324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icit and set business value objecti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4"/>
            <p:cNvSpPr/>
            <p:nvPr/>
          </p:nvSpPr>
          <p:spPr>
            <a:xfrm>
              <a:off x="5456160" y="2208240"/>
              <a:ext cx="2203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ermine the practic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cus are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5"/>
            <p:cNvSpPr/>
            <p:nvPr/>
          </p:nvSpPr>
          <p:spPr>
            <a:xfrm>
              <a:off x="5456160" y="3423960"/>
              <a:ext cx="24987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lerate and monitor practice ado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6"/>
            <p:cNvSpPr/>
            <p:nvPr/>
          </p:nvSpPr>
          <p:spPr>
            <a:xfrm>
              <a:off x="5456160" y="4508280"/>
              <a:ext cx="26193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437"/>
                </a:spcBef>
                <a:spcAft>
                  <a:spcPts val="2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view and communicate business resul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Picture 17" descr="Sphere3"/>
            <p:cNvPicPr/>
            <p:nvPr/>
          </p:nvPicPr>
          <p:blipFill>
            <a:blip r:embed="rId2"/>
            <a:stretch/>
          </p:blipFill>
          <p:spPr>
            <a:xfrm>
              <a:off x="4168800" y="40910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8" descr="Sphere3"/>
            <p:cNvPicPr/>
            <p:nvPr/>
          </p:nvPicPr>
          <p:blipFill>
            <a:blip r:embed="rId3"/>
            <a:stretch/>
          </p:blipFill>
          <p:spPr>
            <a:xfrm>
              <a:off x="4168800" y="18302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19" descr="Sphere3"/>
            <p:cNvPicPr/>
            <p:nvPr/>
          </p:nvPicPr>
          <p:blipFill>
            <a:blip r:embed="rId4"/>
            <a:stretch/>
          </p:blipFill>
          <p:spPr>
            <a:xfrm>
              <a:off x="4168800" y="29606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20"/>
            <p:cNvSpPr/>
            <p:nvPr/>
          </p:nvSpPr>
          <p:spPr>
            <a:xfrm>
              <a:off x="4410000" y="123660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1"/>
            <p:cNvSpPr/>
            <p:nvPr/>
          </p:nvSpPr>
          <p:spPr>
            <a:xfrm>
              <a:off x="4410000" y="229716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4410000" y="3397320"/>
              <a:ext cx="1058760" cy="8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3"/>
            <p:cNvSpPr/>
            <p:nvPr/>
          </p:nvSpPr>
          <p:spPr>
            <a:xfrm>
              <a:off x="4421160" y="455436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4"/>
            <p:cNvSpPr/>
            <p:nvPr/>
          </p:nvSpPr>
          <p:spPr>
            <a:xfrm>
              <a:off x="6000840" y="5315760"/>
              <a:ext cx="2050920" cy="399960"/>
            </a:xfrm>
            <a:prstGeom prst="roundRect">
              <a:avLst>
                <a:gd name="adj" fmla="val 50000"/>
              </a:avLst>
            </a:prstGeom>
            <a:solidFill>
              <a:srgbClr val="00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Gulim"/>
                </a:rPr>
                <a:t>Go back to Phase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5"/>
            <p:cNvSpPr/>
            <p:nvPr/>
          </p:nvSpPr>
          <p:spPr>
            <a:xfrm>
              <a:off x="4197240" y="5135400"/>
              <a:ext cx="2557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000" spc="-1" strike="noStrike">
                  <a:solidFill>
                    <a:srgbClr val="000000"/>
                  </a:solidFill>
                  <a:latin typeface="Arial"/>
                </a:rPr>
                <a:t>Confirm results delivered</a:t>
              </a:r>
              <a:br>
                <a:rPr sz="1000"/>
              </a:br>
              <a:r>
                <a:rPr b="0" i="1" lang="en-CA" sz="1000" spc="-1" strike="noStrike">
                  <a:solidFill>
                    <a:srgbClr val="000000"/>
                  </a:solidFill>
                  <a:latin typeface="Arial"/>
                </a:rPr>
                <a:t>and start next proje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ight Arrow 48"/>
          <p:cNvSpPr/>
          <p:nvPr/>
        </p:nvSpPr>
        <p:spPr>
          <a:xfrm flipV="1" rot="2817000">
            <a:off x="3474000" y="1625760"/>
            <a:ext cx="1020960" cy="4986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52280" y="79524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your openness &amp; particip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the time you spent with 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 the past weeks we ha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rveyed 51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viduals with 29 respon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viewed 34 stakeholders  - 3 have multiple roles - 9 also in surv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thered CIO and executive perspec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viewed representative artifacts and templates provided by Big Box Comp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Chart 7" descr=""/>
          <p:cNvPicPr/>
          <p:nvPr/>
        </p:nvPicPr>
        <p:blipFill>
          <a:blip r:embed="rId1"/>
          <a:stretch/>
        </p:blipFill>
        <p:spPr>
          <a:xfrm>
            <a:off x="2206800" y="2968560"/>
            <a:ext cx="4200480" cy="30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re SDLC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Group 14"/>
          <p:cNvGrpSpPr/>
          <p:nvPr/>
        </p:nvGrpSpPr>
        <p:grpSpPr>
          <a:xfrm>
            <a:off x="1600200" y="747720"/>
            <a:ext cx="5553000" cy="5500800"/>
            <a:chOff x="1600200" y="747720"/>
            <a:chExt cx="5553000" cy="5500800"/>
          </a:xfrm>
        </p:grpSpPr>
        <p:pic>
          <p:nvPicPr>
            <p:cNvPr id="184" name="Picture 4" descr=""/>
            <p:cNvPicPr/>
            <p:nvPr/>
          </p:nvPicPr>
          <p:blipFill>
            <a:blip r:embed="rId1"/>
            <a:stretch/>
          </p:blipFill>
          <p:spPr>
            <a:xfrm>
              <a:off x="1600200" y="747720"/>
              <a:ext cx="5553000" cy="55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Box 8"/>
            <p:cNvSpPr/>
            <p:nvPr/>
          </p:nvSpPr>
          <p:spPr>
            <a:xfrm>
              <a:off x="2930040" y="2654280"/>
              <a:ext cx="34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9"/>
            <p:cNvSpPr/>
            <p:nvPr/>
          </p:nvSpPr>
          <p:spPr>
            <a:xfrm>
              <a:off x="3718080" y="4412520"/>
              <a:ext cx="34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0"/>
            <p:cNvSpPr/>
            <p:nvPr/>
          </p:nvSpPr>
          <p:spPr>
            <a:xfrm flipH="1">
              <a:off x="5933520" y="4393800"/>
              <a:ext cx="2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3"/>
          <p:cNvGrpSpPr/>
          <p:nvPr/>
        </p:nvGrpSpPr>
        <p:grpSpPr>
          <a:xfrm>
            <a:off x="6638760" y="5627520"/>
            <a:ext cx="2019600" cy="764280"/>
            <a:chOff x="6638760" y="5627520"/>
            <a:chExt cx="2019600" cy="764280"/>
          </a:xfrm>
        </p:grpSpPr>
        <p:sp>
          <p:nvSpPr>
            <p:cNvPr id="189" name="TextBox 11"/>
            <p:cNvSpPr/>
            <p:nvPr/>
          </p:nvSpPr>
          <p:spPr>
            <a:xfrm>
              <a:off x="6638760" y="5627520"/>
              <a:ext cx="427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2"/>
            <p:cNvSpPr/>
            <p:nvPr/>
          </p:nvSpPr>
          <p:spPr>
            <a:xfrm>
              <a:off x="6933600" y="5721120"/>
              <a:ext cx="172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= Focus Ar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15"/>
          <p:cNvSpPr/>
          <p:nvPr/>
        </p:nvSpPr>
        <p:spPr>
          <a:xfrm>
            <a:off x="276120" y="793800"/>
            <a:ext cx="23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es used for the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194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ical Large Company Pro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Object 2" descr=""/>
          <p:cNvPicPr/>
          <p:nvPr/>
        </p:nvPicPr>
        <p:blipFill>
          <a:blip r:embed="rId1"/>
          <a:stretch/>
        </p:blipFill>
        <p:spPr>
          <a:xfrm>
            <a:off x="650880" y="1523880"/>
            <a:ext cx="7639200" cy="49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Object 2" descr=""/>
          <p:cNvPicPr/>
          <p:nvPr/>
        </p:nvPicPr>
        <p:blipFill>
          <a:blip r:embed="rId1"/>
          <a:stretch/>
        </p:blipFill>
        <p:spPr>
          <a:xfrm>
            <a:off x="593640" y="1542960"/>
            <a:ext cx="7642440" cy="4878360"/>
          </a:xfrm>
          <a:prstGeom prst="rect">
            <a:avLst/>
          </a:prstGeom>
          <a:ln w="0">
            <a:noFill/>
          </a:ln>
        </p:spPr>
      </p:pic>
      <p:sp>
        <p:nvSpPr>
          <p:cNvPr id="195" name="Oval 6"/>
          <p:cNvSpPr/>
          <p:nvPr/>
        </p:nvSpPr>
        <p:spPr>
          <a:xfrm>
            <a:off x="6521400" y="738360"/>
            <a:ext cx="401760" cy="245880"/>
          </a:xfrm>
          <a:prstGeom prst="ellipse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6521400" y="1517760"/>
            <a:ext cx="401760" cy="245880"/>
          </a:xfrm>
          <a:prstGeom prst="ellipse">
            <a:avLst/>
          </a:prstGeom>
          <a:noFill/>
          <a:ln w="38160">
            <a:solidFill>
              <a:srgbClr val="25406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1411200" y="0"/>
            <a:ext cx="633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ig Box Company’s Self-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6532560" y="1111320"/>
            <a:ext cx="401760" cy="245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7140600" y="345960"/>
            <a:ext cx="196380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 current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BM typically s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’s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BM Finding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Object 2" descr=""/>
          <p:cNvPicPr/>
          <p:nvPr/>
        </p:nvPicPr>
        <p:blipFill>
          <a:blip r:embed="rId1"/>
          <a:stretch/>
        </p:blipFill>
        <p:spPr>
          <a:xfrm>
            <a:off x="722160" y="1571760"/>
            <a:ext cx="7356600" cy="4663800"/>
          </a:xfrm>
          <a:prstGeom prst="rect">
            <a:avLst/>
          </a:prstGeom>
          <a:ln w="0">
            <a:noFill/>
          </a:ln>
        </p:spPr>
      </p:pic>
      <p:sp>
        <p:nvSpPr>
          <p:cNvPr id="202" name="Oval 8"/>
          <p:cNvSpPr/>
          <p:nvPr/>
        </p:nvSpPr>
        <p:spPr>
          <a:xfrm>
            <a:off x="6622920" y="739800"/>
            <a:ext cx="401760" cy="245880"/>
          </a:xfrm>
          <a:prstGeom prst="ellipse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7113600" y="387360"/>
            <a:ext cx="196380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’s assessed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BM typically s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ective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1"/>
          <p:cNvSpPr/>
          <p:nvPr/>
        </p:nvSpPr>
        <p:spPr>
          <a:xfrm>
            <a:off x="6620040" y="1557360"/>
            <a:ext cx="401400" cy="245880"/>
          </a:xfrm>
          <a:prstGeom prst="ellipse">
            <a:avLst/>
          </a:prstGeom>
          <a:noFill/>
          <a:ln w="38160">
            <a:solidFill>
              <a:srgbClr val="10111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608880" y="1111320"/>
            <a:ext cx="401400" cy="245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4:53:41Z</dcterms:created>
  <dc:creator>tsteighn</dc:creator>
  <dc:description/>
  <dc:language>en-US</dc:language>
  <cp:lastModifiedBy>Denise Cook</cp:lastModifiedBy>
  <dcterms:modified xsi:type="dcterms:W3CDTF">2010-08-13T19:01:28Z</dcterms:modified>
  <cp:revision>474</cp:revision>
  <dc:subject/>
  <dc:title>Click to edit title style</dc:title>
</cp:coreProperties>
</file>