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49214-CBEC-43BE-9BBE-8408D0630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7144F-76B9-4BC7-AC27-61D3984CF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1EFE4-5E57-4827-8B8D-03CC0DD4C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D0451-3345-4008-AEFE-9F54B215B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7292B-BE8B-4BF0-9B87-97ABF0AE1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FE8A5-6A1C-4AC5-9601-C6F82FF25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33F22-08AA-41B3-B4B9-BF9D1745C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6D6E1-8E2F-4D2B-94AF-F9A24CE26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0745D-1A7A-4FEA-9D14-E5CE2109E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41F20-0D2B-48A8-8B7E-B88DE41C0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5A75D-3918-4ECC-B459-696F82B6E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F57B-BE59-4F6C-A077-D1294602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12F9-8628-4978-8CB7-F719346D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4E67-B462-4653-801E-199451A4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9893-BB7F-4536-A397-23D8A80C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0B42-4267-4AAA-A5DF-7A194B76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0E42-CB3B-4989-A9E5-1476AE56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F238-E1E9-4281-87E6-64F2BAEA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E024-B488-451A-B47C-2F06C8B1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370B-E580-4622-A685-23AAAAA6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894B-8A47-4411-B8E9-A1949B30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DCC7-8EA5-410E-B240-8388F1C4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91C6-26A4-4298-BC17-54F2F956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" descr="ibm_white_logo_300dpi"/>
          <p:cNvPicPr/>
          <p:nvPr/>
        </p:nvPicPr>
        <p:blipFill>
          <a:blip r:embed="rId2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7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416320" y="6643800"/>
            <a:ext cx="4039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4175E874-BA13-41F6-9427-5CF08692A497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625840" y="6643800"/>
            <a:ext cx="411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50D45A75-1B26-48E6-B1D5-82FBED09C647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C870-945E-4B56-A35C-24DE1242D2C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g Box Company Software Development Lifecycle Assess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dings and Recommen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ne 15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ibm_white_logo_300dpi"/>
          <p:cNvPicPr/>
          <p:nvPr/>
        </p:nvPicPr>
        <p:blipFill>
          <a:blip r:embed="rId1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360" y="5428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1456920"/>
            <a:ext cx="87631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process provides valuable check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focus on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ckets of good practices for requirements definition, architecture, quality and supporting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ment to follow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rly prototyping supports requirements visu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ning to enable data gover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8120" y="892080"/>
            <a:ext cx="87631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iming, Accountability and Collaboration between Business and IT needs to be opt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Definitions techniques are applied inconsistent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nflexible application of SDLC an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ting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ccess and identification of reusable content is lim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anually intensive software development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lack enough detail for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test is incomp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est Cases are not consistently tra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uilds are manual and inconsis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 Governance stops at Gate 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438120" y="973080"/>
            <a:ext cx="43052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)  Timing, Accountability and Collaboration between Business and IT needs to b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onsisten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)  Requirements Definitions techniques are applied inconsist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de variation in u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834080" y="738360"/>
            <a:ext cx="4047840" cy="2657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67120" y="3352680"/>
            <a:ext cx="4105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ss and identification of reusable content i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ject-centr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71600" y="911160"/>
            <a:ext cx="42624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flexible application of SDLC and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a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acts ability to respond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962600" y="747720"/>
            <a:ext cx="4019400" cy="2905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943520" y="3676680"/>
            <a:ext cx="4048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)  Requirements lack enough detail fo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ditional work rather then using current arti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15800" y="871560"/>
            <a:ext cx="4221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nually intensive software develop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utomation an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00600" y="733320"/>
            <a:ext cx="4095720" cy="2876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19680" y="3695760"/>
            <a:ext cx="41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406440" y="3600360"/>
            <a:ext cx="42210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)  Test Cases are not consistently tr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test cases traced to origin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38120" y="973080"/>
            <a:ext cx="423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)  Developer test is 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mited implementation of test frameworks and buil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67120" y="766800"/>
            <a:ext cx="4124520" cy="2809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67120" y="3662280"/>
            <a:ext cx="40672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3"/>
          <p:cNvSpPr/>
          <p:nvPr/>
        </p:nvSpPr>
        <p:spPr>
          <a:xfrm>
            <a:off x="189360" y="973080"/>
            <a:ext cx="4733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)  Builds are manual and in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ery early adoption with build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chitecture Governance stops at Gate 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ed on infrastructure and not verified during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872320" y="6168960"/>
            <a:ext cx="984240" cy="23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76092"/>
                </a:solidFill>
                <a:latin typeface="Arial"/>
              </a:rPr>
              <a:t>Repea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38560" y="671400"/>
            <a:ext cx="3867480" cy="2847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948200" y="3591000"/>
            <a:ext cx="4010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2"/>
          <p:cNvSpPr/>
          <p:nvPr/>
        </p:nvSpPr>
        <p:spPr>
          <a:xfrm>
            <a:off x="419040" y="639720"/>
            <a:ext cx="8215200" cy="5351400"/>
          </a:xfrm>
          <a:prstGeom prst="rect">
            <a:avLst/>
          </a:prstGeom>
          <a:gradFill rotWithShape="0">
            <a:gsLst>
              <a:gs pos="0">
                <a:srgbClr val="243559"/>
              </a:gs>
              <a:gs pos="100000">
                <a:srgbClr val="66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23880" y="812880"/>
            <a:ext cx="809784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7320" y="-360"/>
            <a:ext cx="8467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463680" y="615312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Effort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 rot="16200000">
            <a:off x="-1310040" y="4424760"/>
            <a:ext cx="31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otential Busines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4840200" y="1406520"/>
            <a:ext cx="878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our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2039760" y="2390760"/>
            <a:ext cx="1524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quirements Management &amp; Com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5634000" y="1430280"/>
            <a:ext cx="1346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Involve all in development of detailed design and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7297560" y="277164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Establish hardware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5"/>
          <p:cNvSpPr/>
          <p:nvPr/>
        </p:nvSpPr>
        <p:spPr>
          <a:xfrm>
            <a:off x="3106800" y="1589040"/>
            <a:ext cx="99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 automated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125360" y="326556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rchitectural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4173480" y="33415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188748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uto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i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973080" y="1589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Unit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2344680" y="33415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ail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3335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cess 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3564000" y="1512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sisten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9"/>
          <p:cNvSpPr/>
          <p:nvPr/>
        </p:nvSpPr>
        <p:spPr>
          <a:xfrm>
            <a:off x="1582560" y="30369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7"/>
          <p:cNvSpPr/>
          <p:nvPr/>
        </p:nvSpPr>
        <p:spPr>
          <a:xfrm>
            <a:off x="14302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8"/>
          <p:cNvSpPr/>
          <p:nvPr/>
        </p:nvSpPr>
        <p:spPr>
          <a:xfrm>
            <a:off x="21924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3106800" y="31129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2344680" y="21225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341136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524016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6"/>
          <p:cNvSpPr/>
          <p:nvPr/>
        </p:nvSpPr>
        <p:spPr>
          <a:xfrm>
            <a:off x="47829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7"/>
          <p:cNvSpPr/>
          <p:nvPr/>
        </p:nvSpPr>
        <p:spPr>
          <a:xfrm>
            <a:off x="60786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7437600" y="1473120"/>
            <a:ext cx="1126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Pilot incremental and  iterative delivery 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1"/>
          <p:cNvSpPr/>
          <p:nvPr/>
        </p:nvSpPr>
        <p:spPr>
          <a:xfrm>
            <a:off x="813600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3"/>
          <p:cNvSpPr/>
          <p:nvPr/>
        </p:nvSpPr>
        <p:spPr>
          <a:xfrm>
            <a:off x="896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5"/>
          <p:cNvSpPr/>
          <p:nvPr/>
        </p:nvSpPr>
        <p:spPr>
          <a:xfrm>
            <a:off x="592200" y="3341520"/>
            <a:ext cx="99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Ar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Self-Aud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5"/>
          <p:cNvSpPr/>
          <p:nvPr/>
        </p:nvSpPr>
        <p:spPr>
          <a:xfrm>
            <a:off x="6840360" y="21985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6078600" y="242712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gmt 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9"/>
          <p:cNvSpPr/>
          <p:nvPr/>
        </p:nvSpPr>
        <p:spPr>
          <a:xfrm>
            <a:off x="42498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0"/>
          <p:cNvSpPr/>
          <p:nvPr/>
        </p:nvSpPr>
        <p:spPr>
          <a:xfrm>
            <a:off x="28018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219240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5043600" y="4695840"/>
            <a:ext cx="3422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right-timing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shared view of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64"/>
          <p:cNvSpPr/>
          <p:nvPr/>
        </p:nvSpPr>
        <p:spPr>
          <a:xfrm flipH="1">
            <a:off x="4649760" y="816120"/>
            <a:ext cx="1440" cy="519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66"/>
          <p:cNvSpPr/>
          <p:nvPr/>
        </p:nvSpPr>
        <p:spPr>
          <a:xfrm>
            <a:off x="649440" y="4522680"/>
            <a:ext cx="800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 rot="16200000">
            <a:off x="-159840" y="513360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 to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 rot="16200000">
            <a:off x="-313560" y="1863000"/>
            <a:ext cx="22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um   to Very 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1"/>
          <p:cNvSpPr/>
          <p:nvPr/>
        </p:nvSpPr>
        <p:spPr>
          <a:xfrm>
            <a:off x="4782960" y="38750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4173480" y="40784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4"/>
          <p:cNvSpPr/>
          <p:nvPr/>
        </p:nvSpPr>
        <p:spPr>
          <a:xfrm>
            <a:off x="5621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74"/>
          <p:cNvSpPr/>
          <p:nvPr/>
        </p:nvSpPr>
        <p:spPr>
          <a:xfrm>
            <a:off x="6078600" y="28843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75"/>
          <p:cNvSpPr/>
          <p:nvPr/>
        </p:nvSpPr>
        <p:spPr>
          <a:xfrm>
            <a:off x="5468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4782960" y="33066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2725560" y="250344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1"/>
          <p:cNvSpPr/>
          <p:nvPr/>
        </p:nvSpPr>
        <p:spPr>
          <a:xfrm>
            <a:off x="3335400" y="22748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5"/>
          <p:cNvSpPr/>
          <p:nvPr/>
        </p:nvSpPr>
        <p:spPr>
          <a:xfrm flipV="1">
            <a:off x="2619360" y="6345360"/>
            <a:ext cx="4640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4"/>
          <p:cNvSpPr/>
          <p:nvPr/>
        </p:nvSpPr>
        <p:spPr>
          <a:xfrm>
            <a:off x="7645320" y="24415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57"/>
          <p:cNvCxnSpPr/>
          <p:nvPr/>
        </p:nvCxnSpPr>
        <p:spPr>
          <a:xfrm flipV="1">
            <a:off x="290880" y="880200"/>
            <a:ext cx="2520" cy="225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Oval 56"/>
          <p:cNvSpPr/>
          <p:nvPr/>
        </p:nvSpPr>
        <p:spPr>
          <a:xfrm>
            <a:off x="4030560" y="283680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8"/>
          <p:cNvSpPr/>
          <p:nvPr/>
        </p:nvSpPr>
        <p:spPr>
          <a:xfrm>
            <a:off x="5106960" y="538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1"/>
          <p:cNvSpPr/>
          <p:nvPr/>
        </p:nvSpPr>
        <p:spPr>
          <a:xfrm>
            <a:off x="5095800" y="56973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5396040" y="559584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other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5396040" y="535932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top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8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66720" y="942840"/>
          <a:ext cx="7991640" cy="5077080"/>
        </p:xfrm>
        <a:graphic>
          <a:graphicData uri="http://schemas.openxmlformats.org/drawingml/2006/table">
            <a:tbl>
              <a:tblPr/>
              <a:tblGrid>
                <a:gridCol w="3995640"/>
                <a:gridCol w="39960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igation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iculty accepting alternative forms of documentation and development and/or agile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 and knowledge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 projects with alternative development approach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ived initial impact of recommendations on program  and project time and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visible sponsor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goals related to adoption of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 a learning cu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/IT Collab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ve to shared business and IT ownership of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xt Steps…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82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6210360" y="762120"/>
            <a:ext cx="2819520" cy="53496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5349600"/>
              <a:gd name="textAreaBottom" fmla="*/ 5349960 h 53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ef99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4586400" y="762120"/>
            <a:ext cx="2563560" cy="5333760"/>
          </a:xfrm>
          <a:custGeom>
            <a:avLst/>
            <a:gdLst>
              <a:gd name="textAreaLeft" fmla="*/ 0 w 2563560"/>
              <a:gd name="textAreaRight" fmla="*/ 2563920 w 2563560"/>
              <a:gd name="textAreaTop" fmla="*/ 0 h 5333760"/>
              <a:gd name="textAreaBottom" fmla="*/ 533412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ce0b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2720880" y="822240"/>
            <a:ext cx="2590920" cy="53499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99">
                  <a:alpha val="7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352440" y="822240"/>
            <a:ext cx="2673360" cy="53499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0a9f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6834240" y="1066680"/>
            <a:ext cx="13730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15960" y="1066680"/>
            <a:ext cx="1028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 Work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2901960" y="1063800"/>
            <a:ext cx="10936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inalize 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5054760" y="1066680"/>
            <a:ext cx="1153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xecutiv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-495360" y="2071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39800" y="230184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e op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map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89040" y="205740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March 31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st</a:t>
            </a: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736560" y="34750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to Deliver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714240" y="323064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178080" y="260676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BM on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051000" y="236232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178080" y="38559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178080" y="358128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663480" y="42829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Review of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689040" y="40543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8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35932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5203800" y="283356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2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713088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Nex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Particip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am,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7000920" y="28195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Late Apri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7710480" y="6194520"/>
            <a:ext cx="30312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7957080" y="612612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7256520" y="609120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914040"/>
            <a:ext cx="841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Box Company Assessment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vs. Interview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sessment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5520" y="126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to help Big Box Company balance speed to market with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where  Big Box Company performs relative to modern software developmen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for improvements in SDLC and establish an actionable road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54080" y="62244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28680" y="1014480"/>
            <a:ext cx="8534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107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2240" y="930240"/>
            <a:ext cx="32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BM  Assessment offers a structured approach to help teams measure and iteratively improve the business process of software delivery us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lected Artifact Revie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ings and Recommend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-6480" y="5684760"/>
            <a:ext cx="9141120" cy="900360"/>
          </a:xfrm>
          <a:prstGeom prst="rect">
            <a:avLst/>
          </a:prstGeom>
          <a:gradFill rotWithShape="0">
            <a:gsLst>
              <a:gs pos="0">
                <a:srgbClr val="a9e4f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200" y="5713560"/>
            <a:ext cx="76626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f82"/>
                </a:solidFill>
                <a:latin typeface="Arial"/>
              </a:rPr>
              <a:t>Empower teams to measure, manage and incrementally improve their software delivery cap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168800" y="752400"/>
            <a:ext cx="3906720" cy="4963320"/>
            <a:chOff x="4168800" y="752400"/>
            <a:chExt cx="3906720" cy="4963320"/>
          </a:xfrm>
        </p:grpSpPr>
        <p:sp>
          <p:nvSpPr>
            <p:cNvPr id="159" name="Freeform 7"/>
            <p:cNvSpPr/>
            <p:nvPr/>
          </p:nvSpPr>
          <p:spPr>
            <a:xfrm>
              <a:off x="4174920" y="2466720"/>
              <a:ext cx="2748240" cy="3070440"/>
            </a:xfrm>
            <a:prstGeom prst="pie">
              <a:avLst/>
            </a:prstGeom>
            <a:noFill/>
            <a:ln w="126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>
              <a:off x="5343480" y="1057320"/>
              <a:ext cx="23814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9" descr="Sphere3"/>
            <p:cNvPicPr/>
            <p:nvPr/>
          </p:nvPicPr>
          <p:blipFill>
            <a:blip r:embed="rId1"/>
            <a:stretch/>
          </p:blipFill>
          <p:spPr>
            <a:xfrm>
              <a:off x="4168800" y="75240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10"/>
            <p:cNvSpPr/>
            <p:nvPr/>
          </p:nvSpPr>
          <p:spPr>
            <a:xfrm>
              <a:off x="5383080" y="217332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5383080" y="3333600"/>
              <a:ext cx="2379600" cy="61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2"/>
            <p:cNvSpPr/>
            <p:nvPr/>
          </p:nvSpPr>
          <p:spPr>
            <a:xfrm>
              <a:off x="5383080" y="444024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5440320" y="1112760"/>
              <a:ext cx="2343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icit and set business value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5456160" y="2208240"/>
              <a:ext cx="2203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ermine the practic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5456160" y="3423960"/>
              <a:ext cx="24987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lerate and monitor practice ado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5456160" y="4508280"/>
              <a:ext cx="2619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437"/>
                </a:spcBef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iew and communicate business 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7" descr="Sphere3"/>
            <p:cNvPicPr/>
            <p:nvPr/>
          </p:nvPicPr>
          <p:blipFill>
            <a:blip r:embed="rId2"/>
            <a:stretch/>
          </p:blipFill>
          <p:spPr>
            <a:xfrm>
              <a:off x="4168800" y="40910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8" descr="Sphere3"/>
            <p:cNvPicPr/>
            <p:nvPr/>
          </p:nvPicPr>
          <p:blipFill>
            <a:blip r:embed="rId3"/>
            <a:stretch/>
          </p:blipFill>
          <p:spPr>
            <a:xfrm>
              <a:off x="4168800" y="18302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9" descr="Sphere3"/>
            <p:cNvPicPr/>
            <p:nvPr/>
          </p:nvPicPr>
          <p:blipFill>
            <a:blip r:embed="rId4"/>
            <a:stretch/>
          </p:blipFill>
          <p:spPr>
            <a:xfrm>
              <a:off x="4168800" y="29606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0"/>
            <p:cNvSpPr/>
            <p:nvPr/>
          </p:nvSpPr>
          <p:spPr>
            <a:xfrm>
              <a:off x="4410000" y="123660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4410000" y="22971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4410000" y="3397320"/>
              <a:ext cx="105876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4421160" y="45543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6000840" y="5315760"/>
              <a:ext cx="2050920" cy="399960"/>
            </a:xfrm>
            <a:prstGeom prst="roundRect">
              <a:avLst>
                <a:gd name="adj" fmla="val 50000"/>
              </a:avLst>
            </a:prstGeom>
            <a:solidFill>
              <a:srgbClr val="00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Go back to Ph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4197240" y="5135400"/>
              <a:ext cx="2557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Confirm results delivered</a:t>
              </a:r>
              <a:br>
                <a:rPr sz="1000"/>
              </a:b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and start next 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ight Arrow 48"/>
          <p:cNvSpPr/>
          <p:nvPr/>
        </p:nvSpPr>
        <p:spPr>
          <a:xfrm flipV="1" rot="2817000">
            <a:off x="3474000" y="1625760"/>
            <a:ext cx="1020960" cy="498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280" y="79524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your openness &amp; particip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time you spent with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 the past weeks we ha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veyed 51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with 29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iewed 34 stakeholders  - 3 have multiple roles - 9 also in surv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hered CIO and executive persp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ed representative artifacts and templates provided by Big Box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1"/>
          <a:stretch/>
        </p:blipFill>
        <p:spPr>
          <a:xfrm>
            <a:off x="2206800" y="2968560"/>
            <a:ext cx="420048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e SDL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1600200" y="747720"/>
            <a:ext cx="5553000" cy="5500800"/>
            <a:chOff x="1600200" y="747720"/>
            <a:chExt cx="5553000" cy="5500800"/>
          </a:xfrm>
        </p:grpSpPr>
        <p:pic>
          <p:nvPicPr>
            <p:cNvPr id="184" name="Picture 4" descr=""/>
            <p:cNvPicPr/>
            <p:nvPr/>
          </p:nvPicPr>
          <p:blipFill>
            <a:blip r:embed="rId1"/>
            <a:stretch/>
          </p:blipFill>
          <p:spPr>
            <a:xfrm>
              <a:off x="1600200" y="747720"/>
              <a:ext cx="555300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8"/>
            <p:cNvSpPr/>
            <p:nvPr/>
          </p:nvSpPr>
          <p:spPr>
            <a:xfrm>
              <a:off x="2930040" y="265428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"/>
            <p:cNvSpPr/>
            <p:nvPr/>
          </p:nvSpPr>
          <p:spPr>
            <a:xfrm>
              <a:off x="3718080" y="441252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 flipH="1">
              <a:off x="5933520" y="4393800"/>
              <a:ext cx="2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6638760" y="5627520"/>
            <a:ext cx="2019600" cy="764280"/>
            <a:chOff x="6638760" y="5627520"/>
            <a:chExt cx="2019600" cy="764280"/>
          </a:xfrm>
        </p:grpSpPr>
        <p:sp>
          <p:nvSpPr>
            <p:cNvPr id="189" name="TextBox 11"/>
            <p:cNvSpPr/>
            <p:nvPr/>
          </p:nvSpPr>
          <p:spPr>
            <a:xfrm>
              <a:off x="6638760" y="5627520"/>
              <a:ext cx="42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2"/>
            <p:cNvSpPr/>
            <p:nvPr/>
          </p:nvSpPr>
          <p:spPr>
            <a:xfrm>
              <a:off x="6933600" y="57211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= Focus A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5"/>
          <p:cNvSpPr/>
          <p:nvPr/>
        </p:nvSpPr>
        <p:spPr>
          <a:xfrm>
            <a:off x="276120" y="7938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s used for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194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ical Large Company Pro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ject 2" descr=""/>
          <p:cNvPicPr/>
          <p:nvPr/>
        </p:nvPicPr>
        <p:blipFill>
          <a:blip r:embed="rId1"/>
          <a:stretch/>
        </p:blipFill>
        <p:spPr>
          <a:xfrm>
            <a:off x="650880" y="1523880"/>
            <a:ext cx="763920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Object 2" descr=""/>
          <p:cNvPicPr/>
          <p:nvPr/>
        </p:nvPicPr>
        <p:blipFill>
          <a:blip r:embed="rId1"/>
          <a:stretch/>
        </p:blipFill>
        <p:spPr>
          <a:xfrm>
            <a:off x="593640" y="1542960"/>
            <a:ext cx="7642440" cy="4878360"/>
          </a:xfrm>
          <a:prstGeom prst="rect">
            <a:avLst/>
          </a:prstGeom>
          <a:ln w="0">
            <a:noFill/>
          </a:ln>
        </p:spPr>
      </p:pic>
      <p:sp>
        <p:nvSpPr>
          <p:cNvPr id="195" name="Oval 6"/>
          <p:cNvSpPr/>
          <p:nvPr/>
        </p:nvSpPr>
        <p:spPr>
          <a:xfrm>
            <a:off x="6521400" y="738360"/>
            <a:ext cx="401760" cy="245880"/>
          </a:xfrm>
          <a:prstGeom prst="ellipse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6521400" y="1517760"/>
            <a:ext cx="401760" cy="245880"/>
          </a:xfrm>
          <a:prstGeom prst="ellipse">
            <a:avLst/>
          </a:prstGeom>
          <a:noFill/>
          <a:ln w="38160">
            <a:solidFill>
              <a:srgbClr val="25406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1411200" y="0"/>
            <a:ext cx="633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g Box Company’s Self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6532560" y="1111320"/>
            <a:ext cx="40176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7140600" y="3459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 curr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BM Finding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Object 2" descr=""/>
          <p:cNvPicPr/>
          <p:nvPr/>
        </p:nvPicPr>
        <p:blipFill>
          <a:blip r:embed="rId1"/>
          <a:stretch/>
        </p:blipFill>
        <p:spPr>
          <a:xfrm>
            <a:off x="722160" y="1571760"/>
            <a:ext cx="7356600" cy="4663800"/>
          </a:xfrm>
          <a:prstGeom prst="rect">
            <a:avLst/>
          </a:prstGeom>
          <a:ln w="0">
            <a:noFill/>
          </a:ln>
        </p:spPr>
      </p:pic>
      <p:sp>
        <p:nvSpPr>
          <p:cNvPr id="202" name="Oval 8"/>
          <p:cNvSpPr/>
          <p:nvPr/>
        </p:nvSpPr>
        <p:spPr>
          <a:xfrm>
            <a:off x="6622920" y="739800"/>
            <a:ext cx="401760" cy="245880"/>
          </a:xfrm>
          <a:prstGeom prst="ellipse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7113600" y="3873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assess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6620040" y="1557360"/>
            <a:ext cx="401400" cy="245880"/>
          </a:xfrm>
          <a:prstGeom prst="ellipse">
            <a:avLst/>
          </a:prstGeom>
          <a:noFill/>
          <a:ln w="38160">
            <a:solidFill>
              <a:srgbClr val="1011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608880" y="1111320"/>
            <a:ext cx="40140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53:41Z</dcterms:created>
  <dc:creator>tsteighn</dc:creator>
  <dc:description/>
  <dc:language>en-US</dc:language>
  <cp:lastModifiedBy>Denise Cook</cp:lastModifiedBy>
  <dcterms:modified xsi:type="dcterms:W3CDTF">2010-08-13T19:01:28Z</dcterms:modified>
  <cp:revision>474</cp:revision>
  <dc:subject/>
  <dc:title>Click to edit title style</dc:title>
</cp:coreProperties>
</file>