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5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4315-D5B7-447F-AA8A-B30C773A9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790C-6D78-491B-937B-68B68A695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C72B-FCF4-4B67-BF32-BFA0687E2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448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580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BD38-AB43-4D04-818D-57B72A223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1EC9CE-402A-4507-BCA2-2EC0C147A77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CBAA74-1821-4564-9D2F-9C92DFB0BA1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29D09B-AF63-4D64-AB5C-F453F4B89DB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94C146-3CB0-4DD8-86EF-75816F20867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2811A7-F640-4A41-8413-A7B10C070A5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5960" y="-115920"/>
            <a:ext cx="784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6D5D52-2A3A-4BC1-9C0E-9D03AC9F49B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C418F4-A426-49B7-9166-93B0C74585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2508-7D09-4545-A617-09C3C6C8E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204B5E-4CB4-4CBB-9D8D-54F6F0A795F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3CCCD4-08F3-4586-8E28-545FD13EE1A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524986-71E8-4613-96A6-A6B6B5C1D43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712291-8523-44F0-BA81-2B9B3CC7948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52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6448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9580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B7702D-3061-4948-8B09-6C20828123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6C74-51BC-4DDE-B7FE-9BC97D130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6552-C8EE-4E9B-9BF6-751195B73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CACF-BF32-4E94-BB9F-C8372704A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5960" y="-115920"/>
            <a:ext cx="784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5556-41A6-42EC-9E3C-8B1B94D48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ECEC-329A-4369-A22B-92F2ADFD2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9901-03BD-4482-93A4-FF0BCCD5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CC5D-6B68-440D-AFE4-0E3CF7302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75960" y="65401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8E981-0ADB-4593-AE5C-92CAF5FA058A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048120" y="655308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315200" y="-1676520"/>
            <a:ext cx="2541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72388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C42E7-94A5-451A-AD5F-C3D7BE42408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971800" y="10666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8bba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568bb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4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570b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70b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2014F-A5C3-4606-B772-2566703EB6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 Unicode MS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bmpi.org/" TargetMode="External"/><Relationship Id="rId2" Type="http://schemas.openxmlformats.org/officeDocument/2006/relationships/hyperlink" Target="http://www.omg.org/docs/dtc/06-02-01.pdf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8bba"/>
                </a:solidFill>
                <a:latin typeface="Arial"/>
              </a:rPr>
              <a:t>BPMN</a:t>
            </a:r>
            <a:endParaRPr b="0" lang="en-US" sz="4800" spc="-1" strike="noStrike">
              <a:solidFill>
                <a:srgbClr val="568bba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0" y="28195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 Introductio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445600" y="636912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667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-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3412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601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1143000"/>
            <a:ext cx="47246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Sub-Process can be in an expanded form that shows the process details of the a lower-level set of activ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309564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AFF3-C56E-48CD-8285-108EBC15700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829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n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3809880"/>
            <a:ext cx="88394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Sequence Flow is used to show the order that activities will be performed in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Message Flow is used to show the flow of messages between two entities that are prepared to send and receive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ssociation is used to associate information and artifacts with flow ob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705720" cy="263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5FAC-188A-4AAB-BD2D-88D1AE5220A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829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te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14800" y="1371600"/>
            <a:ext cx="4800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Gateways are modeling elements that are used to control how Sequence Flows interact as they converge and diverge within a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f the flow does not need to be controlled, then a Gateway is not nee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3344760" cy="303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8259-3C3E-43F8-87AA-CD84A9F30D5D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829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imla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4191120"/>
            <a:ext cx="85341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Pool is a “swimlane” and a graphical container for partitioning a set of activities from other Pools, usually in the context of B2B sit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Lane is a sub-partition within a Pool and will extend the entire length of the Pool, either vertically or horizont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600200" y="906480"/>
            <a:ext cx="5105520" cy="290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A261-739D-4AB1-8061-0C6DCA7DA5E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829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if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1280" y="1066680"/>
            <a:ext cx="48769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Data Objects are not flow objects (i.e., connected through Sequence Flow), but they do provide information about how documents, data, and other objects are used and updated within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ext Annotations are a mechanism for a modeler to provide additional information for the reader of a BPMN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Groups provide a mechanism to visually organize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84240" y="1582560"/>
            <a:ext cx="1454040" cy="344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11D8-3732-4FC6-8D3D-74464372CB41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al F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8610480" cy="217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294D-D84C-47DB-B673-0E6794B2D8F6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6829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2B Mode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610480" cy="3894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28600" y="5562720"/>
            <a:ext cx="8458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Enhancements are being considered for BPMN 1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AC12-C1CE-431A-9A13-8243B45ED77D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6829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eption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1143000"/>
            <a:ext cx="5562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ntermediate Events attached to the boundary of an activity represent triggers that can interrupt the activ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ll work within the activity will be stopped and flow will proceed from the Ev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imer, Exceptions, Messages, etc. can be Trigg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019920" y="1666800"/>
            <a:ext cx="1471320" cy="13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64A7-76BE-409C-B9B4-078D19D99B68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ensation Handling and Trans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95680" y="1219320"/>
            <a:ext cx="4648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Transaction is an activity that has a double border. Transactions are supported by a transaction protocol (e.g., WS-Transactio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Normal Outgoing Sequence Flow represents the path to follow a successful comple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Cancel Intermediate Event represents the path to follow a cancelled comple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Exception Intermediate Event represents the path to follow a transaction haza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Activities used for compensate (with marker) are outside normal flow and are Associated normal activit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28600" y="1268280"/>
            <a:ext cx="3867120" cy="429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DC4D-0703-4CEA-AF1E-45A469C08EF0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mplex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6320" y="1535040"/>
            <a:ext cx="8991360" cy="4332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2F2D-1C7C-4F0C-BDA2-A3901F2F7D2F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tion of BPM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usiness Process Modeling Notation provides: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807b"/>
                </a:solidFill>
                <a:latin typeface="Arial"/>
                <a:ea typeface="Times New Roman"/>
              </a:rPr>
              <a:t>The capability of defining and understanding their internal and external business procedures through a Business Process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807b"/>
                </a:solidFill>
                <a:latin typeface="Arial"/>
                <a:ea typeface="Times New Roman"/>
              </a:rPr>
              <a:t>The ability to communicate these procedures in a standard manner.</a:t>
            </a:r>
            <a:r>
              <a:rPr b="0" lang="en-US" sz="2400" spc="-1" strike="noStrike">
                <a:solidFill>
                  <a:srgbClr val="7f807b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9AD7-02E5-4E62-B2FA-1814D244D903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I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cc"/>
                </a:solidFill>
                <a:uFillTx/>
                <a:latin typeface="Arial"/>
                <a:hlinkClick r:id="rId1"/>
              </a:rPr>
              <a:t>www.bmpi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N specification </a:t>
            </a:r>
            <a:r>
              <a:rPr b="0" lang="en-US" sz="2800" spc="-1" strike="noStrike" u="sng">
                <a:solidFill>
                  <a:srgbClr val="cccccc"/>
                </a:solidFill>
                <a:uFillTx/>
                <a:latin typeface="Arial"/>
                <a:hlinkClick r:id="rId2"/>
              </a:rPr>
              <a:t>http://www.omg.org/docs/dtc/06-02-01.pdf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N stencil for Visio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in ISIS: BPMN 0-9-V2003.v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Enterprise Architect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Process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E01D-C592-4620-98AA-7414D7847DB2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e Set of Diagram 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1981080"/>
            <a:ext cx="42670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Core set of modeling elements enables the easy development of simple Business Process Dia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Looks familiar to most Business Analysts (flowchart diagr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069920" y="1878120"/>
            <a:ext cx="2587680" cy="269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8825-D49B-4E8A-BC09-3E42A0765F7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Event triggers a process: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process should have at least one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quence flow links: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in the same swim lane (see la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Message flow links: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between teams so swim lan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nchronous activ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63BD-09D2-448B-B5C9-FB491E1897D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14800" y="1219320"/>
            <a:ext cx="48769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Event is something that “happens” during the course of a business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Events affect the flow of the Process and usually have a trigger or a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Events can start, interrupt, or end the f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3282840" cy="495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C782-CA47-4FCC-84C3-9559935F1D2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5029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Intermediate Events: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an exception or compensation handl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n by placing the Intermediate Event on the boundary of a Task or Sub-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timer exp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095880" y="1905120"/>
          <a:ext cx="1955880" cy="26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1905120"/>
                    <a:ext cx="1955880" cy="26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210F-7A22-4793-8267-2F5E71D6D11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ntermediate event types indicate the different ways that a Process may be interrupted or delayed after it has started. </a:t>
            </a:r>
            <a:endParaRPr b="0" lang="en-US" sz="20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Compensation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used for compensation handling--both setting and performing compensation. It call for compensation if the Event is part of a Normal Flow. It reacts to a named compensation call when attached to the boundary of an activit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Rule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only used for exception handling. This type of event is triggered when a Rule becomes true. Link Ev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28600" y="2438280"/>
          <a:ext cx="31896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438280"/>
                    <a:ext cx="3189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228600" y="4253040"/>
          <a:ext cx="31896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253040"/>
                    <a:ext cx="3189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722C-01C5-4395-AF40-FE86951178B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990720"/>
            <a:ext cx="6781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858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Link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Link is a mechanism for connecting an End Event (Result) of one Process to an Intermediate Event (Trigger) in another Process. Paired Intermediate Events can also be used as “Go To” objects within a Proces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Multiple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means that there are multiple ways of triggering the Event. Only one of them will be required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523880"/>
          <a:ext cx="31896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3189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457200" y="3276720"/>
          <a:ext cx="31896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276720"/>
                    <a:ext cx="3189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37AB-654C-494A-9322-063D064A82D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667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62720" y="144792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ctivity is work that is performed within a business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ctivity can be atomic or non-atomic (compoun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he types of activities that are a part of a Process Model are: Process, Sub-Process, and Ta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5064120" cy="336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073A-8815-4B79-87EF-EF6CEBD1DFA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8T18:27:15Z</dcterms:created>
  <dc:creator>jboyer</dc:creator>
  <dc:description/>
  <dc:language>en-US</dc:language>
  <cp:lastModifiedBy>Julio Prez</cp:lastModifiedBy>
  <dcterms:modified xsi:type="dcterms:W3CDTF">2008-12-17T13:17:42Z</dcterms:modified>
  <cp:revision>24</cp:revision>
  <dc:subject/>
  <dc:title>BPMN</dc:title>
</cp:coreProperties>
</file>