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3364A8-7C07-46BF-BA23-2CBB214415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7DA82B-C418-4E1E-B997-05A7606578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DF540E-F370-4454-99AC-CADEEC6F96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C09028-3BCB-4032-BBDD-54ADC58256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258920" y="722160"/>
            <a:ext cx="4797360" cy="35974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CDFD58-4C54-4300-BB08-D1ED4E02DF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BA2654-2D3D-4A5D-B124-539521D6E1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BC66DA-2AAA-4D5C-83C6-469474E362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7FD094-4642-4BB0-9195-0443EC311B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2401F4-9E39-458B-BB5B-ADCA3371E9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BC3284-0BBE-440E-AF5B-BBEDB95EC1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E8648A-4AF3-48CF-BB87-81E89888F3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0044-75C8-499D-A103-871C59E17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68EC-26DE-4D3D-9D9D-C16912F39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786F-06B4-430F-89D1-499ABED7D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3F82-D168-4D72-A21A-D1CB38D62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F76B-CC45-450B-A35F-A8C35DC9D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CF9E-4DE5-4DFF-A0CB-B1DD5B7E4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9C2B-9EE8-4A19-A48C-83D5C793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6ED8-5FF6-4C97-B5DA-245FB03E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257C-80EB-492F-A720-3606B4FCC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A5C4-DA46-4D21-A8F5-0BEA016A2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AD76-3B86-4D26-AF7D-85F33723C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F0B8-0532-4913-8DEC-8BEF2F88F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2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c0c0c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3" descr="ibm_white_logo_300dpi"/>
          <p:cNvPicPr/>
          <p:nvPr/>
        </p:nvPicPr>
        <p:blipFill>
          <a:blip r:embed="rId2"/>
          <a:srcRect l="0" t="0" r="6479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2" name="Rectangle 11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65736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ox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6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2416320" y="6643800"/>
            <a:ext cx="4039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Times New Roman"/>
              </a:rPr>
              <a:t>IBM AND BIG BOX COMPANY CONFIDENTIAL – FOR INTERNAL USE ON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8"/>
          <p:cNvSpPr/>
          <p:nvPr/>
        </p:nvSpPr>
        <p:spPr>
          <a:xfrm flipH="1">
            <a:off x="0" y="57636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9"/>
          <p:cNvSpPr/>
          <p:nvPr/>
        </p:nvSpPr>
        <p:spPr>
          <a:xfrm flipH="1">
            <a:off x="0" y="647712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82440" y="6643800"/>
            <a:ext cx="12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June 15, 20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7113600" y="6643800"/>
            <a:ext cx="1722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Page </a:t>
            </a:r>
            <a:fld id="{E2D3E8F7-4502-4EB6-A17B-218F2EF9BAA0}" type="slidenum">
              <a:rPr b="1" lang="en-US" sz="8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ibm_light_gray_logo_300dpi"/>
          <p:cNvPicPr/>
          <p:nvPr/>
        </p:nvPicPr>
        <p:blipFill>
          <a:blip r:embed="rId2"/>
          <a:srcRect l="0" t="0" r="6497" b="0"/>
          <a:stretch/>
        </p:blipFill>
        <p:spPr>
          <a:xfrm>
            <a:off x="8229600" y="1522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47680" y="200160"/>
            <a:ext cx="201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ox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2625840" y="6643800"/>
            <a:ext cx="4116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Times New Roman"/>
              </a:rPr>
              <a:t>IBM AND BIG BOX COMPANY CONFIDENTIAL – FOR INTERNAL USE ON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8"/>
          <p:cNvSpPr/>
          <p:nvPr/>
        </p:nvSpPr>
        <p:spPr>
          <a:xfrm flipH="1">
            <a:off x="0" y="57636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9"/>
          <p:cNvSpPr/>
          <p:nvPr/>
        </p:nvSpPr>
        <p:spPr>
          <a:xfrm flipH="1">
            <a:off x="0" y="647712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82440" y="6643800"/>
            <a:ext cx="12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June 15, 20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7113600" y="6643800"/>
            <a:ext cx="1722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Page </a:t>
            </a:r>
            <a:fld id="{EE32CCAD-17BB-4756-A208-BA8075259B48}" type="slidenum">
              <a:rPr b="1" lang="en-US" sz="8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ibm_light_gray_logo_300dpi"/>
          <p:cNvPicPr/>
          <p:nvPr/>
        </p:nvPicPr>
        <p:blipFill>
          <a:blip r:embed="rId2"/>
          <a:srcRect l="0" t="0" r="6497" b="0"/>
          <a:stretch/>
        </p:blipFill>
        <p:spPr>
          <a:xfrm>
            <a:off x="8229600" y="1522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4BF32-68CF-47C5-8133-2016A7381C2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47680" y="200160"/>
            <a:ext cx="201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ox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5228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ig Box Company Software Development Lifecycle Assessm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indings and Recommend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June 15, 20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c0c0c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3" descr="ibm_white_logo_300dpi"/>
          <p:cNvPicPr/>
          <p:nvPr/>
        </p:nvPicPr>
        <p:blipFill>
          <a:blip r:embed="rId1"/>
          <a:srcRect l="0" t="0" r="6479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11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33360" y="542880"/>
            <a:ext cx="26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ox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’s Working We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28600" y="1456920"/>
            <a:ext cx="876312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rrent process provides valuable checkpoi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ganizational focus on tes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ckets of good practices for requirements definition, architecture, quality and supporting discipl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mitment to follow the SDL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rly prototyping supports requirements visual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ginning to enable data govern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presentative Challen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68120" y="892080"/>
            <a:ext cx="876312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Timing, Accountability and Collaboration between Business and IT needs to be optimiz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Requirements Definitions techniques are applied inconsistentl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Inflexible application of SDLC and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Gating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Access and identification of reusable content is limi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Manually intensive software development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Requirements lack enough detail for t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Developer test is incomple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Test Cases are not consistently trac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Builds are manual and inconsist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Architecture Governance stops at Gate 2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6"/>
          <p:cNvSpPr/>
          <p:nvPr/>
        </p:nvSpPr>
        <p:spPr>
          <a:xfrm>
            <a:off x="1257480" y="0"/>
            <a:ext cx="59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3"/>
          <p:cNvSpPr/>
          <p:nvPr/>
        </p:nvSpPr>
        <p:spPr>
          <a:xfrm>
            <a:off x="438120" y="973080"/>
            <a:ext cx="430524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1)  Timing, Accountability and Collaboration between Business and IT needs to be optim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consistent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4"/>
          <p:cNvSpPr/>
          <p:nvPr/>
        </p:nvSpPr>
        <p:spPr>
          <a:xfrm>
            <a:off x="406440" y="3600360"/>
            <a:ext cx="426240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2)  Requirements Definitions techniques are applied inconsist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ide variation in us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834080" y="738360"/>
            <a:ext cx="4047840" cy="26571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4767120" y="3352680"/>
            <a:ext cx="41054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34"/>
          <p:cNvSpPr/>
          <p:nvPr/>
        </p:nvSpPr>
        <p:spPr>
          <a:xfrm>
            <a:off x="406440" y="3600360"/>
            <a:ext cx="426240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4) 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ccess and identification of reusable content is lim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roject-centric fo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4"/>
          <p:cNvSpPr/>
          <p:nvPr/>
        </p:nvSpPr>
        <p:spPr>
          <a:xfrm>
            <a:off x="471600" y="911160"/>
            <a:ext cx="42624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flexible application of SDLC and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Gating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mpacts ability to respond to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1257480" y="0"/>
            <a:ext cx="59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962600" y="747720"/>
            <a:ext cx="4019400" cy="29052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4943520" y="3676680"/>
            <a:ext cx="40482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6"/>
          <p:cNvSpPr/>
          <p:nvPr/>
        </p:nvSpPr>
        <p:spPr>
          <a:xfrm>
            <a:off x="406440" y="3600360"/>
            <a:ext cx="422100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6)  Requirements lack enough detail for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dditional work rather then using current artif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415800" y="871560"/>
            <a:ext cx="42213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anually intensive software development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automation and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1257480" y="0"/>
            <a:ext cx="59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4800600" y="733320"/>
            <a:ext cx="4095720" cy="28767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4819680" y="3695760"/>
            <a:ext cx="418140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6"/>
          <p:cNvSpPr/>
          <p:nvPr/>
        </p:nvSpPr>
        <p:spPr>
          <a:xfrm>
            <a:off x="406440" y="3600360"/>
            <a:ext cx="4221000" cy="15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8)  Test Cases are not consistently tra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ot all test cases traced to original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438120" y="973080"/>
            <a:ext cx="42339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7)  Developer test is in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Limited implementation of test frameworks and build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1257480" y="0"/>
            <a:ext cx="59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767120" y="766800"/>
            <a:ext cx="4124520" cy="28098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4767120" y="3662280"/>
            <a:ext cx="4067280" cy="27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33"/>
          <p:cNvSpPr/>
          <p:nvPr/>
        </p:nvSpPr>
        <p:spPr>
          <a:xfrm>
            <a:off x="189360" y="973080"/>
            <a:ext cx="47332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9)  Builds are manual and inconsis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Very early adoption with build scri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4"/>
          <p:cNvSpPr/>
          <p:nvPr/>
        </p:nvSpPr>
        <p:spPr>
          <a:xfrm>
            <a:off x="406440" y="3600360"/>
            <a:ext cx="422100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rchitecture Governance stops at Gate 2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ed on infrastructure and not verified during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4"/>
          <p:cNvSpPr/>
          <p:nvPr/>
        </p:nvSpPr>
        <p:spPr>
          <a:xfrm>
            <a:off x="5872320" y="6168960"/>
            <a:ext cx="984240" cy="231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76092"/>
                </a:solidFill>
                <a:latin typeface="Arial"/>
              </a:rPr>
              <a:t>Repeat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1257480" y="0"/>
            <a:ext cx="59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5038560" y="671400"/>
            <a:ext cx="3867480" cy="28479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4948200" y="3591000"/>
            <a:ext cx="40100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52"/>
          <p:cNvSpPr/>
          <p:nvPr/>
        </p:nvSpPr>
        <p:spPr>
          <a:xfrm>
            <a:off x="419040" y="639720"/>
            <a:ext cx="8215200" cy="5351400"/>
          </a:xfrm>
          <a:prstGeom prst="rect">
            <a:avLst/>
          </a:prstGeom>
          <a:gradFill rotWithShape="0">
            <a:gsLst>
              <a:gs pos="0">
                <a:srgbClr val="243559"/>
              </a:gs>
              <a:gs pos="100000">
                <a:srgbClr val="66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3"/>
          <p:cNvSpPr/>
          <p:nvPr/>
        </p:nvSpPr>
        <p:spPr>
          <a:xfrm>
            <a:off x="623880" y="812880"/>
            <a:ext cx="8097840" cy="52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17320" y="-360"/>
            <a:ext cx="846756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ptions:  Effort vs. Valu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Box 3"/>
          <p:cNvSpPr/>
          <p:nvPr/>
        </p:nvSpPr>
        <p:spPr>
          <a:xfrm>
            <a:off x="463680" y="6153120"/>
            <a:ext cx="21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Effort to Imp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4"/>
          <p:cNvSpPr/>
          <p:nvPr/>
        </p:nvSpPr>
        <p:spPr>
          <a:xfrm rot="16200000">
            <a:off x="-1310040" y="4424760"/>
            <a:ext cx="314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Potential Business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4"/>
          <p:cNvSpPr/>
          <p:nvPr/>
        </p:nvSpPr>
        <p:spPr>
          <a:xfrm>
            <a:off x="4840200" y="1406520"/>
            <a:ext cx="878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gag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Busines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esourc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ar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4"/>
          <p:cNvSpPr/>
          <p:nvPr/>
        </p:nvSpPr>
        <p:spPr>
          <a:xfrm>
            <a:off x="2039760" y="2390760"/>
            <a:ext cx="15242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equirements Management &amp; Com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racea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33"/>
          <p:cNvSpPr/>
          <p:nvPr/>
        </p:nvSpPr>
        <p:spPr>
          <a:xfrm>
            <a:off x="5634000" y="1430280"/>
            <a:ext cx="1346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Involve all in development of detailed design and require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4"/>
          <p:cNvSpPr/>
          <p:nvPr/>
        </p:nvSpPr>
        <p:spPr>
          <a:xfrm>
            <a:off x="7297560" y="2771640"/>
            <a:ext cx="121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Establish hardware testing su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5"/>
          <p:cNvSpPr/>
          <p:nvPr/>
        </p:nvSpPr>
        <p:spPr>
          <a:xfrm>
            <a:off x="3106800" y="1589040"/>
            <a:ext cx="990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Develop automated testing su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14"/>
          <p:cNvSpPr/>
          <p:nvPr/>
        </p:nvSpPr>
        <p:spPr>
          <a:xfrm>
            <a:off x="1125360" y="3265560"/>
            <a:ext cx="152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rchitectural Govern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4"/>
          <p:cNvSpPr/>
          <p:nvPr/>
        </p:nvSpPr>
        <p:spPr>
          <a:xfrm>
            <a:off x="4173480" y="3341520"/>
            <a:ext cx="152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esig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ode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4"/>
          <p:cNvSpPr/>
          <p:nvPr/>
        </p:nvSpPr>
        <p:spPr>
          <a:xfrm>
            <a:off x="1887480" y="1589040"/>
            <a:ext cx="152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utom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Buil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5"/>
          <p:cNvSpPr/>
          <p:nvPr/>
        </p:nvSpPr>
        <p:spPr>
          <a:xfrm>
            <a:off x="973080" y="1589040"/>
            <a:ext cx="17524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Devel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Unit Tes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4"/>
          <p:cNvSpPr/>
          <p:nvPr/>
        </p:nvSpPr>
        <p:spPr>
          <a:xfrm>
            <a:off x="2344680" y="334152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D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ailo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4"/>
          <p:cNvSpPr/>
          <p:nvPr/>
        </p:nvSpPr>
        <p:spPr>
          <a:xfrm>
            <a:off x="3335400" y="311292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rocess Mode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14"/>
          <p:cNvSpPr/>
          <p:nvPr/>
        </p:nvSpPr>
        <p:spPr>
          <a:xfrm>
            <a:off x="3564000" y="151272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Us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as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onsistenc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39"/>
          <p:cNvSpPr/>
          <p:nvPr/>
        </p:nvSpPr>
        <p:spPr>
          <a:xfrm>
            <a:off x="1582560" y="30369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37"/>
          <p:cNvSpPr/>
          <p:nvPr/>
        </p:nvSpPr>
        <p:spPr>
          <a:xfrm>
            <a:off x="143028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38"/>
          <p:cNvSpPr/>
          <p:nvPr/>
        </p:nvSpPr>
        <p:spPr>
          <a:xfrm>
            <a:off x="219240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41"/>
          <p:cNvSpPr/>
          <p:nvPr/>
        </p:nvSpPr>
        <p:spPr>
          <a:xfrm>
            <a:off x="3106800" y="311292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42"/>
          <p:cNvSpPr/>
          <p:nvPr/>
        </p:nvSpPr>
        <p:spPr>
          <a:xfrm>
            <a:off x="2344680" y="21225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43"/>
          <p:cNvSpPr/>
          <p:nvPr/>
        </p:nvSpPr>
        <p:spPr>
          <a:xfrm>
            <a:off x="3411360" y="12081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44"/>
          <p:cNvSpPr/>
          <p:nvPr/>
        </p:nvSpPr>
        <p:spPr>
          <a:xfrm>
            <a:off x="524016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46"/>
          <p:cNvSpPr/>
          <p:nvPr/>
        </p:nvSpPr>
        <p:spPr>
          <a:xfrm>
            <a:off x="4782960" y="30369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47"/>
          <p:cNvSpPr/>
          <p:nvPr/>
        </p:nvSpPr>
        <p:spPr>
          <a:xfrm>
            <a:off x="607860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34"/>
          <p:cNvSpPr/>
          <p:nvPr/>
        </p:nvSpPr>
        <p:spPr>
          <a:xfrm>
            <a:off x="7437600" y="1473120"/>
            <a:ext cx="11268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Pilot incremental and  iterative delivery (1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51"/>
          <p:cNvSpPr/>
          <p:nvPr/>
        </p:nvSpPr>
        <p:spPr>
          <a:xfrm>
            <a:off x="8136000" y="12081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53"/>
          <p:cNvSpPr/>
          <p:nvPr/>
        </p:nvSpPr>
        <p:spPr>
          <a:xfrm>
            <a:off x="896760" y="30369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5"/>
          <p:cNvSpPr/>
          <p:nvPr/>
        </p:nvSpPr>
        <p:spPr>
          <a:xfrm>
            <a:off x="592200" y="3341520"/>
            <a:ext cx="9903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Arch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Self-Aud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55"/>
          <p:cNvSpPr/>
          <p:nvPr/>
        </p:nvSpPr>
        <p:spPr>
          <a:xfrm>
            <a:off x="6840360" y="219852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14"/>
          <p:cNvSpPr/>
          <p:nvPr/>
        </p:nvSpPr>
        <p:spPr>
          <a:xfrm>
            <a:off x="6078600" y="2427120"/>
            <a:ext cx="1600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terprise A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gmt 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59"/>
          <p:cNvSpPr/>
          <p:nvPr/>
        </p:nvSpPr>
        <p:spPr>
          <a:xfrm>
            <a:off x="424980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60"/>
          <p:cNvSpPr/>
          <p:nvPr/>
        </p:nvSpPr>
        <p:spPr>
          <a:xfrm>
            <a:off x="280188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4"/>
          <p:cNvSpPr/>
          <p:nvPr/>
        </p:nvSpPr>
        <p:spPr>
          <a:xfrm>
            <a:off x="2192400" y="1589040"/>
            <a:ext cx="152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har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i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4"/>
          <p:cNvSpPr/>
          <p:nvPr/>
        </p:nvSpPr>
        <p:spPr>
          <a:xfrm>
            <a:off x="5043600" y="4695840"/>
            <a:ext cx="34225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eaeaea"/>
                </a:solidFill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24"/>
              </a:spcAft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eaeaea"/>
                </a:solidFill>
                <a:latin typeface="Arial"/>
              </a:rPr>
              <a:t>includes right-timing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24"/>
              </a:spcAft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eaeaea"/>
                </a:solidFill>
                <a:latin typeface="Arial"/>
              </a:rPr>
              <a:t>includes shared view of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traight Connector 64"/>
          <p:cNvSpPr/>
          <p:nvPr/>
        </p:nvSpPr>
        <p:spPr>
          <a:xfrm flipH="1">
            <a:off x="4649760" y="816120"/>
            <a:ext cx="1440" cy="519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66"/>
          <p:cNvSpPr/>
          <p:nvPr/>
        </p:nvSpPr>
        <p:spPr>
          <a:xfrm>
            <a:off x="649440" y="4522680"/>
            <a:ext cx="8001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4"/>
          <p:cNvSpPr/>
          <p:nvPr/>
        </p:nvSpPr>
        <p:spPr>
          <a:xfrm rot="16200000">
            <a:off x="-159840" y="5133600"/>
            <a:ext cx="197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ow to Med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4"/>
          <p:cNvSpPr/>
          <p:nvPr/>
        </p:nvSpPr>
        <p:spPr>
          <a:xfrm rot="16200000">
            <a:off x="-313560" y="1863000"/>
            <a:ext cx="228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edium   to Very  Hi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71"/>
          <p:cNvSpPr/>
          <p:nvPr/>
        </p:nvSpPr>
        <p:spPr>
          <a:xfrm>
            <a:off x="4782960" y="387504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4"/>
          <p:cNvSpPr/>
          <p:nvPr/>
        </p:nvSpPr>
        <p:spPr>
          <a:xfrm>
            <a:off x="4173480" y="4078440"/>
            <a:ext cx="152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Govern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14"/>
          <p:cNvSpPr/>
          <p:nvPr/>
        </p:nvSpPr>
        <p:spPr>
          <a:xfrm>
            <a:off x="5621400" y="311292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terprise Archite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74"/>
          <p:cNvSpPr/>
          <p:nvPr/>
        </p:nvSpPr>
        <p:spPr>
          <a:xfrm>
            <a:off x="6078600" y="288432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75"/>
          <p:cNvSpPr/>
          <p:nvPr/>
        </p:nvSpPr>
        <p:spPr>
          <a:xfrm>
            <a:off x="5468760" y="30369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4"/>
          <p:cNvSpPr/>
          <p:nvPr/>
        </p:nvSpPr>
        <p:spPr>
          <a:xfrm>
            <a:off x="4782960" y="330660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etr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4"/>
          <p:cNvSpPr/>
          <p:nvPr/>
        </p:nvSpPr>
        <p:spPr>
          <a:xfrm>
            <a:off x="2725560" y="2503440"/>
            <a:ext cx="152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D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rai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81"/>
          <p:cNvSpPr/>
          <p:nvPr/>
        </p:nvSpPr>
        <p:spPr>
          <a:xfrm>
            <a:off x="3335400" y="227484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55"/>
          <p:cNvSpPr/>
          <p:nvPr/>
        </p:nvSpPr>
        <p:spPr>
          <a:xfrm flipV="1">
            <a:off x="2619360" y="6345360"/>
            <a:ext cx="46404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54"/>
          <p:cNvSpPr/>
          <p:nvPr/>
        </p:nvSpPr>
        <p:spPr>
          <a:xfrm>
            <a:off x="7645320" y="244152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6" name="Straight Arrow Connector 57"/>
          <p:cNvCxnSpPr/>
          <p:nvPr/>
        </p:nvCxnSpPr>
        <p:spPr>
          <a:xfrm flipV="1">
            <a:off x="290880" y="880200"/>
            <a:ext cx="2520" cy="225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7" name="Oval 56"/>
          <p:cNvSpPr/>
          <p:nvPr/>
        </p:nvSpPr>
        <p:spPr>
          <a:xfrm>
            <a:off x="4030560" y="283680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58"/>
          <p:cNvSpPr/>
          <p:nvPr/>
        </p:nvSpPr>
        <p:spPr>
          <a:xfrm>
            <a:off x="5106960" y="538020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71"/>
          <p:cNvSpPr/>
          <p:nvPr/>
        </p:nvSpPr>
        <p:spPr>
          <a:xfrm>
            <a:off x="5095800" y="56973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4"/>
          <p:cNvSpPr/>
          <p:nvPr/>
        </p:nvSpPr>
        <p:spPr>
          <a:xfrm>
            <a:off x="5396040" y="5595840"/>
            <a:ext cx="34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eaeaea"/>
                </a:solidFill>
                <a:latin typeface="Arial"/>
              </a:rPr>
              <a:t>addresses other challeng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4"/>
          <p:cNvSpPr/>
          <p:nvPr/>
        </p:nvSpPr>
        <p:spPr>
          <a:xfrm>
            <a:off x="5396040" y="5359320"/>
            <a:ext cx="34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eaeaea"/>
                </a:solidFill>
                <a:latin typeface="Arial"/>
              </a:rPr>
              <a:t>addresses top challeng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382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otential Inhibitors to Adoptio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666720" y="942840"/>
          <a:ext cx="7991640" cy="5077080"/>
        </p:xfrm>
        <a:graphic>
          <a:graphicData uri="http://schemas.openxmlformats.org/drawingml/2006/table">
            <a:tbl>
              <a:tblPr/>
              <a:tblGrid>
                <a:gridCol w="3995640"/>
                <a:gridCol w="3996000"/>
              </a:tblGrid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hibi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itigation Strate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9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fficulty accepting alternative forms of documentation and development and/or agile practi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aining and knowledge transf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lot projects with alternative development approach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9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rceived initial impact of recommendations on program  and project time and co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sure visible sponsorsh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rformance goals related to adoption of mod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pect a learning cur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usiness/IT Collabo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ve to shared business and IT ownership of solu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0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ext Steps…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3"/>
          <p:cNvSpPr/>
          <p:nvPr/>
        </p:nvSpPr>
        <p:spPr>
          <a:xfrm>
            <a:off x="2826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4"/>
          <p:cNvSpPr/>
          <p:nvPr/>
        </p:nvSpPr>
        <p:spPr>
          <a:xfrm>
            <a:off x="6210360" y="762120"/>
            <a:ext cx="2819520" cy="534960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5349600"/>
              <a:gd name="textAreaBottom" fmla="*/ 5349960 h 534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ef99">
                  <a:alpha val="7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5"/>
          <p:cNvSpPr/>
          <p:nvPr/>
        </p:nvSpPr>
        <p:spPr>
          <a:xfrm>
            <a:off x="4586400" y="762120"/>
            <a:ext cx="2563560" cy="5333760"/>
          </a:xfrm>
          <a:custGeom>
            <a:avLst/>
            <a:gdLst>
              <a:gd name="textAreaLeft" fmla="*/ 0 w 2563560"/>
              <a:gd name="textAreaRight" fmla="*/ 2563920 w 2563560"/>
              <a:gd name="textAreaTop" fmla="*/ 0 h 5333760"/>
              <a:gd name="textAreaBottom" fmla="*/ 5334120 h 5333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ce0ba">
                  <a:alpha val="7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6"/>
          <p:cNvSpPr/>
          <p:nvPr/>
        </p:nvSpPr>
        <p:spPr>
          <a:xfrm>
            <a:off x="2720880" y="822240"/>
            <a:ext cx="2590920" cy="534996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5349960"/>
              <a:gd name="textAreaBottom" fmla="*/ 5350320 h 534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9999">
                  <a:alpha val="74117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7"/>
          <p:cNvSpPr/>
          <p:nvPr/>
        </p:nvSpPr>
        <p:spPr>
          <a:xfrm>
            <a:off x="352440" y="822240"/>
            <a:ext cx="2673360" cy="5349960"/>
          </a:xfrm>
          <a:custGeom>
            <a:avLst/>
            <a:gdLst>
              <a:gd name="textAreaLeft" fmla="*/ 0 w 2673360"/>
              <a:gd name="textAreaRight" fmla="*/ 2673720 w 2673360"/>
              <a:gd name="textAreaTop" fmla="*/ 0 h 5349960"/>
              <a:gd name="textAreaBottom" fmla="*/ 5350320 h 534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0a9fa">
                  <a:alpha val="7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8"/>
          <p:cNvSpPr/>
          <p:nvPr/>
        </p:nvSpPr>
        <p:spPr>
          <a:xfrm>
            <a:off x="6834240" y="1066680"/>
            <a:ext cx="13730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Communica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Roadma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615960" y="1066680"/>
            <a:ext cx="102852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Roadmap Worksho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0"/>
          <p:cNvSpPr/>
          <p:nvPr/>
        </p:nvSpPr>
        <p:spPr>
          <a:xfrm>
            <a:off x="2901960" y="1063800"/>
            <a:ext cx="109368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Finalize Roadma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1"/>
          <p:cNvSpPr/>
          <p:nvPr/>
        </p:nvSpPr>
        <p:spPr>
          <a:xfrm>
            <a:off x="5054760" y="1066680"/>
            <a:ext cx="11538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Executiv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Summar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2"/>
          <p:cNvSpPr/>
          <p:nvPr/>
        </p:nvSpPr>
        <p:spPr>
          <a:xfrm>
            <a:off x="-495360" y="2071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3"/>
          <p:cNvSpPr/>
          <p:nvPr/>
        </p:nvSpPr>
        <p:spPr>
          <a:xfrm>
            <a:off x="739800" y="230184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itize options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admap work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P’s, Core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On-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4"/>
          <p:cNvSpPr/>
          <p:nvPr/>
        </p:nvSpPr>
        <p:spPr>
          <a:xfrm>
            <a:off x="689040" y="205740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March 31</a:t>
            </a:r>
            <a:r>
              <a:rPr b="1" lang="en-US" sz="1300" spc="-1" strike="noStrike" baseline="30000">
                <a:solidFill>
                  <a:srgbClr val="6666ff"/>
                </a:solidFill>
                <a:latin typeface="Arial"/>
              </a:rPr>
              <a:t>st</a:t>
            </a: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5"/>
          <p:cNvSpPr/>
          <p:nvPr/>
        </p:nvSpPr>
        <p:spPr>
          <a:xfrm>
            <a:off x="736560" y="3475080"/>
            <a:ext cx="2133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to Deliver Draft Road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6"/>
          <p:cNvSpPr/>
          <p:nvPr/>
        </p:nvSpPr>
        <p:spPr>
          <a:xfrm>
            <a:off x="714240" y="323064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April 6th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7"/>
          <p:cNvSpPr/>
          <p:nvPr/>
        </p:nvSpPr>
        <p:spPr>
          <a:xfrm>
            <a:off x="3178080" y="260676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feedba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IBM on Road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nsors &amp; Core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erence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8"/>
          <p:cNvSpPr/>
          <p:nvPr/>
        </p:nvSpPr>
        <p:spPr>
          <a:xfrm>
            <a:off x="3051000" y="2362320"/>
            <a:ext cx="1422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April 10</a:t>
            </a:r>
            <a:r>
              <a:rPr b="1" lang="en-US" sz="1300" spc="-1" strike="noStrike" baseline="30000">
                <a:solidFill>
                  <a:srgbClr val="6666ff"/>
                </a:solidFill>
                <a:latin typeface="Arial"/>
              </a:rPr>
              <a:t>th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9"/>
          <p:cNvSpPr/>
          <p:nvPr/>
        </p:nvSpPr>
        <p:spPr>
          <a:xfrm>
            <a:off x="3178080" y="3855960"/>
            <a:ext cx="2133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iver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Road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P’s,  Core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On-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20"/>
          <p:cNvSpPr/>
          <p:nvPr/>
        </p:nvSpPr>
        <p:spPr>
          <a:xfrm>
            <a:off x="3178080" y="358128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April 16th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21"/>
          <p:cNvSpPr/>
          <p:nvPr/>
        </p:nvSpPr>
        <p:spPr>
          <a:xfrm>
            <a:off x="663480" y="428292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Review of Draft Road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nsors &amp; Core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erence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22"/>
          <p:cNvSpPr/>
          <p:nvPr/>
        </p:nvSpPr>
        <p:spPr>
          <a:xfrm>
            <a:off x="689040" y="405432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April 8th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23"/>
          <p:cNvSpPr/>
          <p:nvPr/>
        </p:nvSpPr>
        <p:spPr>
          <a:xfrm>
            <a:off x="5359320" y="304812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Execu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Revie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n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On-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24"/>
          <p:cNvSpPr/>
          <p:nvPr/>
        </p:nvSpPr>
        <p:spPr>
          <a:xfrm>
            <a:off x="5203800" y="283356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April 20</a:t>
            </a:r>
            <a:r>
              <a:rPr b="1" lang="en-US" sz="1300" spc="-1" strike="noStrike" baseline="30000">
                <a:solidFill>
                  <a:srgbClr val="6666ff"/>
                </a:solidFill>
                <a:latin typeface="Arial"/>
              </a:rPr>
              <a:t>th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5"/>
          <p:cNvSpPr/>
          <p:nvPr/>
        </p:nvSpPr>
        <p:spPr>
          <a:xfrm>
            <a:off x="7130880" y="304812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 Road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 Next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P’s, Participant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Team, Dire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6"/>
          <p:cNvSpPr/>
          <p:nvPr/>
        </p:nvSpPr>
        <p:spPr>
          <a:xfrm>
            <a:off x="7000920" y="281952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Late April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7"/>
          <p:cNvSpPr/>
          <p:nvPr/>
        </p:nvSpPr>
        <p:spPr>
          <a:xfrm>
            <a:off x="7710480" y="6194520"/>
            <a:ext cx="303120" cy="1299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8"/>
          <p:cNvSpPr/>
          <p:nvPr/>
        </p:nvSpPr>
        <p:spPr>
          <a:xfrm>
            <a:off x="7957080" y="6126120"/>
            <a:ext cx="99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liver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9"/>
          <p:cNvSpPr/>
          <p:nvPr/>
        </p:nvSpPr>
        <p:spPr>
          <a:xfrm>
            <a:off x="7256520" y="6091200"/>
            <a:ext cx="51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33520" y="914040"/>
            <a:ext cx="8410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g Box Company Assessment Foc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roa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rvey vs. Interview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’s Working We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resentative Challen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tions:  Effort vs. Val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tential Inhibitors to Ad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x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ssessment Foc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25520" y="1260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opportunities to help Big Box Company balance speed to market with qu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stand where  Big Box Company performs relative to modern software development pract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opportunities for improvements in SDLC and establish an actionable roadma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154080" y="622440"/>
            <a:ext cx="82454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31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328680" y="1014480"/>
            <a:ext cx="8534160" cy="48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5960" indent="-345960">
              <a:lnSpc>
                <a:spcPct val="107000"/>
              </a:lnSpc>
              <a:spcBef>
                <a:spcPts val="751"/>
              </a:spcBef>
              <a:spcAft>
                <a:spcPts val="451"/>
              </a:spcAft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25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ppro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92240" y="930240"/>
            <a:ext cx="3263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IBM  Assessment offers a structured approach to help teams measure and iteratively improve the business process of software delivery using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urvey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view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elected Artifact Revie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indings and Recommend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oad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-6480" y="5684760"/>
            <a:ext cx="9141120" cy="900360"/>
          </a:xfrm>
          <a:prstGeom prst="rect">
            <a:avLst/>
          </a:prstGeom>
          <a:gradFill rotWithShape="0">
            <a:gsLst>
              <a:gs pos="0">
                <a:srgbClr val="a9e4f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754200" y="5713560"/>
            <a:ext cx="7662600" cy="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f82"/>
                </a:solidFill>
                <a:latin typeface="Arial"/>
              </a:rPr>
              <a:t>Empower teams to measure, manage and incrementally improve their software delivery capabili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6"/>
          <p:cNvGrpSpPr/>
          <p:nvPr/>
        </p:nvGrpSpPr>
        <p:grpSpPr>
          <a:xfrm>
            <a:off x="4168800" y="752400"/>
            <a:ext cx="3906720" cy="4963320"/>
            <a:chOff x="4168800" y="752400"/>
            <a:chExt cx="3906720" cy="4963320"/>
          </a:xfrm>
        </p:grpSpPr>
        <p:sp>
          <p:nvSpPr>
            <p:cNvPr id="159" name="Freeform 7"/>
            <p:cNvSpPr/>
            <p:nvPr/>
          </p:nvSpPr>
          <p:spPr>
            <a:xfrm>
              <a:off x="4174920" y="2466720"/>
              <a:ext cx="2748240" cy="3070440"/>
            </a:xfrm>
            <a:prstGeom prst="pie">
              <a:avLst/>
            </a:prstGeom>
            <a:noFill/>
            <a:ln w="12600">
              <a:solidFill>
                <a:srgbClr val="00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8"/>
            <p:cNvSpPr/>
            <p:nvPr/>
          </p:nvSpPr>
          <p:spPr>
            <a:xfrm>
              <a:off x="5343480" y="1057320"/>
              <a:ext cx="2381400" cy="612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4ecf8"/>
                </a:gs>
                <a:gs pos="100000">
                  <a:srgbClr val="c6edf8">
                    <a:alpha val="0"/>
                  </a:srgbClr>
                </a:gs>
              </a:gsLst>
              <a:lin ang="27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1" name="Picture 9" descr="Sphere3"/>
            <p:cNvPicPr/>
            <p:nvPr/>
          </p:nvPicPr>
          <p:blipFill>
            <a:blip r:embed="rId1"/>
            <a:stretch/>
          </p:blipFill>
          <p:spPr>
            <a:xfrm>
              <a:off x="4168800" y="752400"/>
              <a:ext cx="1563480" cy="155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AutoShape 10"/>
            <p:cNvSpPr/>
            <p:nvPr/>
          </p:nvSpPr>
          <p:spPr>
            <a:xfrm>
              <a:off x="5383080" y="2173320"/>
              <a:ext cx="2379600" cy="612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4ecf8"/>
                </a:gs>
                <a:gs pos="100000">
                  <a:srgbClr val="c6edf8">
                    <a:alpha val="0"/>
                  </a:srgbClr>
                </a:gs>
              </a:gsLst>
              <a:lin ang="27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AutoShape 11"/>
            <p:cNvSpPr/>
            <p:nvPr/>
          </p:nvSpPr>
          <p:spPr>
            <a:xfrm>
              <a:off x="5383080" y="3333600"/>
              <a:ext cx="2379600" cy="611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4ecf8"/>
                </a:gs>
                <a:gs pos="100000">
                  <a:srgbClr val="c6edf8">
                    <a:alpha val="0"/>
                  </a:srgbClr>
                </a:gs>
              </a:gsLst>
              <a:lin ang="27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AutoShape 12"/>
            <p:cNvSpPr/>
            <p:nvPr/>
          </p:nvSpPr>
          <p:spPr>
            <a:xfrm>
              <a:off x="5383080" y="4440240"/>
              <a:ext cx="2379600" cy="612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4ecf8"/>
                </a:gs>
                <a:gs pos="100000">
                  <a:srgbClr val="c6edf8">
                    <a:alpha val="0"/>
                  </a:srgbClr>
                </a:gs>
              </a:gsLst>
              <a:lin ang="27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3"/>
            <p:cNvSpPr/>
            <p:nvPr/>
          </p:nvSpPr>
          <p:spPr>
            <a:xfrm>
              <a:off x="5440320" y="1112760"/>
              <a:ext cx="234324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88"/>
                </a:spcBef>
                <a:spcAft>
                  <a:spcPts val="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licit and set business value objectiv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4"/>
            <p:cNvSpPr/>
            <p:nvPr/>
          </p:nvSpPr>
          <p:spPr>
            <a:xfrm>
              <a:off x="5456160" y="2208240"/>
              <a:ext cx="220356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88"/>
                </a:spcBef>
                <a:spcAft>
                  <a:spcPts val="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termine the practice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ocus are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15"/>
            <p:cNvSpPr/>
            <p:nvPr/>
          </p:nvSpPr>
          <p:spPr>
            <a:xfrm>
              <a:off x="5456160" y="3423960"/>
              <a:ext cx="249876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celerate and monitor practice adop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16"/>
            <p:cNvSpPr/>
            <p:nvPr/>
          </p:nvSpPr>
          <p:spPr>
            <a:xfrm>
              <a:off x="5456160" y="4508280"/>
              <a:ext cx="261936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437"/>
                </a:spcBef>
                <a:spcAft>
                  <a:spcPts val="26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view and communicate business resul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9" name="Picture 17" descr="Sphere3"/>
            <p:cNvPicPr/>
            <p:nvPr/>
          </p:nvPicPr>
          <p:blipFill>
            <a:blip r:embed="rId2"/>
            <a:stretch/>
          </p:blipFill>
          <p:spPr>
            <a:xfrm>
              <a:off x="4168800" y="4091040"/>
              <a:ext cx="1563480" cy="155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18" descr="Sphere3"/>
            <p:cNvPicPr/>
            <p:nvPr/>
          </p:nvPicPr>
          <p:blipFill>
            <a:blip r:embed="rId3"/>
            <a:stretch/>
          </p:blipFill>
          <p:spPr>
            <a:xfrm>
              <a:off x="4168800" y="1830240"/>
              <a:ext cx="1563480" cy="155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19" descr="Sphere3"/>
            <p:cNvPicPr/>
            <p:nvPr/>
          </p:nvPicPr>
          <p:blipFill>
            <a:blip r:embed="rId4"/>
            <a:stretch/>
          </p:blipFill>
          <p:spPr>
            <a:xfrm>
              <a:off x="4168800" y="2960640"/>
              <a:ext cx="1563480" cy="155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 Box 20"/>
            <p:cNvSpPr/>
            <p:nvPr/>
          </p:nvSpPr>
          <p:spPr>
            <a:xfrm>
              <a:off x="4410000" y="1236600"/>
              <a:ext cx="10587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Pha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21"/>
            <p:cNvSpPr/>
            <p:nvPr/>
          </p:nvSpPr>
          <p:spPr>
            <a:xfrm>
              <a:off x="4410000" y="2297160"/>
              <a:ext cx="10587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Pha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22"/>
            <p:cNvSpPr/>
            <p:nvPr/>
          </p:nvSpPr>
          <p:spPr>
            <a:xfrm>
              <a:off x="4410000" y="3397320"/>
              <a:ext cx="1058760" cy="86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Pha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23"/>
            <p:cNvSpPr/>
            <p:nvPr/>
          </p:nvSpPr>
          <p:spPr>
            <a:xfrm>
              <a:off x="4421160" y="4554360"/>
              <a:ext cx="10587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Pha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24"/>
            <p:cNvSpPr/>
            <p:nvPr/>
          </p:nvSpPr>
          <p:spPr>
            <a:xfrm>
              <a:off x="6000840" y="5315760"/>
              <a:ext cx="2050920" cy="399960"/>
            </a:xfrm>
            <a:prstGeom prst="roundRect">
              <a:avLst>
                <a:gd name="adj" fmla="val 50000"/>
              </a:avLst>
            </a:prstGeom>
            <a:solidFill>
              <a:srgbClr val="0066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  <a:ea typeface="Gulim"/>
                </a:rPr>
                <a:t>Go back to Phase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5"/>
            <p:cNvSpPr/>
            <p:nvPr/>
          </p:nvSpPr>
          <p:spPr>
            <a:xfrm>
              <a:off x="4197240" y="5135400"/>
              <a:ext cx="25574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1000" spc="-1" strike="noStrike">
                  <a:solidFill>
                    <a:srgbClr val="000000"/>
                  </a:solidFill>
                  <a:latin typeface="Arial"/>
                </a:rPr>
                <a:t>Confirm results delivered</a:t>
              </a:r>
              <a:br>
                <a:rPr sz="1000"/>
              </a:br>
              <a:r>
                <a:rPr b="0" i="1" lang="en-CA" sz="1000" spc="-1" strike="noStrike">
                  <a:solidFill>
                    <a:srgbClr val="000000"/>
                  </a:solidFill>
                  <a:latin typeface="Arial"/>
                </a:rPr>
                <a:t>and start next proje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Right Arrow 48"/>
          <p:cNvSpPr/>
          <p:nvPr/>
        </p:nvSpPr>
        <p:spPr>
          <a:xfrm flipV="1" rot="2817000">
            <a:off x="3474000" y="1625760"/>
            <a:ext cx="1020960" cy="49860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52280" y="795240"/>
            <a:ext cx="883944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your openness &amp; particip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the time you spent with 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ver the past weeks we hav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rveyed 51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dividuals with 29 respon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viewed 34 stakeholders  - 3 have multiple roles - 9 also in surve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athered CIO and executive perspectiv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viewed representative artifacts and templates provided by Big Box Compan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Chart 7" descr=""/>
          <p:cNvPicPr/>
          <p:nvPr/>
        </p:nvPicPr>
        <p:blipFill>
          <a:blip r:embed="rId1"/>
          <a:stretch/>
        </p:blipFill>
        <p:spPr>
          <a:xfrm>
            <a:off x="2206800" y="2968560"/>
            <a:ext cx="4200480" cy="301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9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re SDLC Pract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3" name="Group 14"/>
          <p:cNvGrpSpPr/>
          <p:nvPr/>
        </p:nvGrpSpPr>
        <p:grpSpPr>
          <a:xfrm>
            <a:off x="1600200" y="747720"/>
            <a:ext cx="5553000" cy="5500800"/>
            <a:chOff x="1600200" y="747720"/>
            <a:chExt cx="5553000" cy="5500800"/>
          </a:xfrm>
        </p:grpSpPr>
        <p:pic>
          <p:nvPicPr>
            <p:cNvPr id="184" name="Picture 4" descr=""/>
            <p:cNvPicPr/>
            <p:nvPr/>
          </p:nvPicPr>
          <p:blipFill>
            <a:blip r:embed="rId1"/>
            <a:stretch/>
          </p:blipFill>
          <p:spPr>
            <a:xfrm>
              <a:off x="1600200" y="747720"/>
              <a:ext cx="5553000" cy="550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Box 8"/>
            <p:cNvSpPr/>
            <p:nvPr/>
          </p:nvSpPr>
          <p:spPr>
            <a:xfrm>
              <a:off x="2930040" y="2654280"/>
              <a:ext cx="345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1f497d"/>
                  </a:solidFill>
                  <a:latin typeface="Arial"/>
                </a:rPr>
                <a:t>*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Box 9"/>
            <p:cNvSpPr/>
            <p:nvPr/>
          </p:nvSpPr>
          <p:spPr>
            <a:xfrm>
              <a:off x="3718080" y="4412520"/>
              <a:ext cx="345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1f497d"/>
                  </a:solidFill>
                  <a:latin typeface="Arial"/>
                </a:rPr>
                <a:t>*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10"/>
            <p:cNvSpPr/>
            <p:nvPr/>
          </p:nvSpPr>
          <p:spPr>
            <a:xfrm flipH="1">
              <a:off x="5933520" y="4393800"/>
              <a:ext cx="2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1f497d"/>
                  </a:solidFill>
                  <a:latin typeface="Arial"/>
                </a:rPr>
                <a:t>*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3"/>
          <p:cNvGrpSpPr/>
          <p:nvPr/>
        </p:nvGrpSpPr>
        <p:grpSpPr>
          <a:xfrm>
            <a:off x="6638760" y="5627520"/>
            <a:ext cx="2019600" cy="764280"/>
            <a:chOff x="6638760" y="5627520"/>
            <a:chExt cx="2019600" cy="764280"/>
          </a:xfrm>
        </p:grpSpPr>
        <p:sp>
          <p:nvSpPr>
            <p:cNvPr id="189" name="TextBox 11"/>
            <p:cNvSpPr/>
            <p:nvPr/>
          </p:nvSpPr>
          <p:spPr>
            <a:xfrm>
              <a:off x="6638760" y="5627520"/>
              <a:ext cx="4273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1f497d"/>
                  </a:solidFill>
                  <a:latin typeface="Arial"/>
                </a:rPr>
                <a:t>*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Box 12"/>
            <p:cNvSpPr/>
            <p:nvPr/>
          </p:nvSpPr>
          <p:spPr>
            <a:xfrm>
              <a:off x="6933600" y="5721120"/>
              <a:ext cx="172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f497d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1f497d"/>
                  </a:solidFill>
                  <a:latin typeface="Arial"/>
                </a:rPr>
                <a:t>= Focus Are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Rectangle 15"/>
          <p:cNvSpPr/>
          <p:nvPr/>
        </p:nvSpPr>
        <p:spPr>
          <a:xfrm>
            <a:off x="276120" y="793800"/>
            <a:ext cx="238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ctices used for the 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280" y="-194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ypical Large Company Prof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Object 2" descr=""/>
          <p:cNvPicPr/>
          <p:nvPr/>
        </p:nvPicPr>
        <p:blipFill>
          <a:blip r:embed="rId1"/>
          <a:stretch/>
        </p:blipFill>
        <p:spPr>
          <a:xfrm>
            <a:off x="650880" y="1523880"/>
            <a:ext cx="7639200" cy="491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Object 2" descr=""/>
          <p:cNvPicPr/>
          <p:nvPr/>
        </p:nvPicPr>
        <p:blipFill>
          <a:blip r:embed="rId1"/>
          <a:stretch/>
        </p:blipFill>
        <p:spPr>
          <a:xfrm>
            <a:off x="593640" y="1542960"/>
            <a:ext cx="7642440" cy="4878360"/>
          </a:xfrm>
          <a:prstGeom prst="rect">
            <a:avLst/>
          </a:prstGeom>
          <a:ln w="0">
            <a:noFill/>
          </a:ln>
        </p:spPr>
      </p:pic>
      <p:sp>
        <p:nvSpPr>
          <p:cNvPr id="195" name="Oval 6"/>
          <p:cNvSpPr/>
          <p:nvPr/>
        </p:nvSpPr>
        <p:spPr>
          <a:xfrm>
            <a:off x="6521400" y="738360"/>
            <a:ext cx="401760" cy="245880"/>
          </a:xfrm>
          <a:prstGeom prst="ellipse">
            <a:avLst/>
          </a:prstGeom>
          <a:noFill/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7"/>
          <p:cNvSpPr/>
          <p:nvPr/>
        </p:nvSpPr>
        <p:spPr>
          <a:xfrm>
            <a:off x="6521400" y="1517760"/>
            <a:ext cx="401760" cy="245880"/>
          </a:xfrm>
          <a:prstGeom prst="ellipse">
            <a:avLst/>
          </a:prstGeom>
          <a:noFill/>
          <a:ln w="38160">
            <a:solidFill>
              <a:srgbClr val="25406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1411200" y="0"/>
            <a:ext cx="633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ig Box Company’s Self-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9"/>
          <p:cNvSpPr/>
          <p:nvPr/>
        </p:nvSpPr>
        <p:spPr>
          <a:xfrm>
            <a:off x="6532560" y="1111320"/>
            <a:ext cx="401760" cy="245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0"/>
          <p:cNvSpPr/>
          <p:nvPr/>
        </p:nvSpPr>
        <p:spPr>
          <a:xfrm>
            <a:off x="7140600" y="345960"/>
            <a:ext cx="1963800" cy="20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BC current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at IBM typically s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BC’s 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BM Finding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Object 2" descr=""/>
          <p:cNvPicPr/>
          <p:nvPr/>
        </p:nvPicPr>
        <p:blipFill>
          <a:blip r:embed="rId1"/>
          <a:stretch/>
        </p:blipFill>
        <p:spPr>
          <a:xfrm>
            <a:off x="722160" y="1571760"/>
            <a:ext cx="7356600" cy="4663800"/>
          </a:xfrm>
          <a:prstGeom prst="rect">
            <a:avLst/>
          </a:prstGeom>
          <a:ln w="0">
            <a:noFill/>
          </a:ln>
        </p:spPr>
      </p:pic>
      <p:sp>
        <p:nvSpPr>
          <p:cNvPr id="202" name="Oval 8"/>
          <p:cNvSpPr/>
          <p:nvPr/>
        </p:nvSpPr>
        <p:spPr>
          <a:xfrm>
            <a:off x="6622920" y="739800"/>
            <a:ext cx="401760" cy="245880"/>
          </a:xfrm>
          <a:prstGeom prst="ellipse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0"/>
          <p:cNvSpPr/>
          <p:nvPr/>
        </p:nvSpPr>
        <p:spPr>
          <a:xfrm>
            <a:off x="7113600" y="387360"/>
            <a:ext cx="1963800" cy="20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BC’s assessed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at IBM typically s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ffective prac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11"/>
          <p:cNvSpPr/>
          <p:nvPr/>
        </p:nvSpPr>
        <p:spPr>
          <a:xfrm>
            <a:off x="6620040" y="1557360"/>
            <a:ext cx="401400" cy="245880"/>
          </a:xfrm>
          <a:prstGeom prst="ellipse">
            <a:avLst/>
          </a:prstGeom>
          <a:noFill/>
          <a:ln w="38160">
            <a:solidFill>
              <a:srgbClr val="10111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10"/>
          <p:cNvSpPr/>
          <p:nvPr/>
        </p:nvSpPr>
        <p:spPr>
          <a:xfrm>
            <a:off x="6608880" y="1111320"/>
            <a:ext cx="401400" cy="245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9T14:53:41Z</dcterms:created>
  <dc:creator>tsteighn</dc:creator>
  <dc:description/>
  <dc:language>en-US</dc:language>
  <cp:lastModifiedBy>Denise Cook</cp:lastModifiedBy>
  <dcterms:modified xsi:type="dcterms:W3CDTF">2010-08-13T19:01:28Z</dcterms:modified>
  <cp:revision>474</cp:revision>
  <dc:subject/>
  <dc:title>Click to edit title style</dc:title>
</cp:coreProperties>
</file>