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9283700" cy="6934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16F8F7-90A9-49FB-9289-EB00B13105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066320" y="37904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7000BB-FCB8-4BBF-ABE0-1C67D39B3C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8319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AE3A77-4B6A-4E08-876F-206DBE0B1C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55104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3540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06632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55104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3540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A9A482-463E-47BE-9434-B836C786B0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728505-3DC5-4675-8446-D634A8CDF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5FD9DC-497F-412E-B031-61BCAB93E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D1261F-5DA4-406A-AFB9-197ED3973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C5CF11-E7C8-462E-A7AA-20E0578F8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CF1912-3FD2-44F1-833A-CCBD4514A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154080" y="87120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A0A77C-CEF0-48F3-84BA-866E1B2B9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6052F6-FA3A-4578-AD65-C766D68F9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516EEA-0B8A-4608-A176-341656E379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319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4B09A4-B422-4E3F-B058-485BEECEB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5BBF15-F412-4EDF-AEF3-D80EE8914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1066320" y="37904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67219A-6E1A-4916-A0F9-8331982B3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319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D4EDA0-E0BC-4EC2-91FB-CF795D7D0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5104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3540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106632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5104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3540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B4D3B1-7572-4AB6-B9DC-C14A59DD5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6DCCDC-98A2-4BE6-9C11-8910EE5B30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41CEF0-EE6B-45AA-A849-640D8BEBB0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E5C3BD-CD76-4D68-B2D5-F52869B4FE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54080" y="87120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768393-C704-4CF1-A7B4-EFF01C9AD8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181180-627E-4134-BB8E-5A0A74F2FF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8319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EC371D-26AC-4181-9732-F0F50C43F9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5A6848-C253-4CEF-976F-E79BDCC3C7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324480"/>
            <a:ext cx="9144000" cy="72720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7889fb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7889fb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7889fb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438120"/>
          </a:xfrm>
          <a:prstGeom prst="rect">
            <a:avLst/>
          </a:pr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42520" y="90360"/>
            <a:ext cx="179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rcRect l="0" t="0" r="6463" b="0"/>
          <a:stretch/>
        </p:blipFill>
        <p:spPr>
          <a:xfrm>
            <a:off x="8370720" y="100080"/>
            <a:ext cx="623880" cy="24768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1446120" y="195120"/>
            <a:ext cx="0" cy="235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1440" y="6324480"/>
            <a:ext cx="9142560" cy="28584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3"/>
          <p:cNvSpPr>
            <a:spLocks noGrp="1"/>
          </p:cNvSpPr>
          <p:nvPr>
            <p:ph type="ftr" idx="1"/>
          </p:nvPr>
        </p:nvSpPr>
        <p:spPr>
          <a:xfrm>
            <a:off x="178920" y="6676560"/>
            <a:ext cx="5977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utomated Deployment Example – dec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2"/>
          </p:nvPr>
        </p:nvSpPr>
        <p:spPr>
          <a:xfrm>
            <a:off x="6552720" y="6669000"/>
            <a:ext cx="2133720" cy="3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8F8A1-CDF5-47FB-AEB8-6D408A2C7CE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0" t="0" r="6463" b="0"/>
          <a:stretch/>
        </p:blipFill>
        <p:spPr>
          <a:xfrm>
            <a:off x="7521480" y="687240"/>
            <a:ext cx="1003320" cy="4003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03508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189072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-714240" y="-1855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6329520" y="5238720"/>
            <a:ext cx="2577960" cy="4572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0" y="4778280"/>
            <a:ext cx="9142560" cy="37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8453520" y="969840"/>
            <a:ext cx="23004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Arial"/>
                <a:ea typeface="Arial"/>
              </a:rPr>
              <a:t>®</a:t>
            </a: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ftr" idx="3"/>
          </p:nvPr>
        </p:nvSpPr>
        <p:spPr>
          <a:xfrm>
            <a:off x="-396720" y="6244920"/>
            <a:ext cx="6913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utomated Deployment Example – dec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C9B87-15C4-4677-83E1-5A23CFC5CB1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dt" idx="5"/>
          </p:nvPr>
        </p:nvSpPr>
        <p:spPr>
          <a:xfrm>
            <a:off x="611280" y="6524640"/>
            <a:ext cx="213336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7920" algn="ctr">
              <a:spcBef>
                <a:spcPts val="751"/>
              </a:spcBef>
              <a:spcAft>
                <a:spcPts val="451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7889fb"/>
              </a:buClr>
              <a:buFont typeface="Arial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7889fb"/>
              </a:buClr>
              <a:buFont typeface="Arial"/>
              <a:buChar char="−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searle@ca.ibm.com" TargetMode="External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0600" y="1916280"/>
            <a:ext cx="8213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utomated Deployment Example</a:t>
            </a:r>
            <a:br>
              <a:rPr sz="3600"/>
            </a:b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rry Searle,  </a:t>
            </a:r>
            <a:r>
              <a:rPr b="0" lang="en-US" sz="2800" spc="-1" strike="noStrike" u="sng">
                <a:solidFill>
                  <a:srgbClr val="c0c0c0"/>
                </a:solidFill>
                <a:uFillTx/>
                <a:latin typeface="Arial"/>
                <a:hlinkClick r:id="rId1"/>
              </a:rPr>
              <a:t>searle@ca.ibm.com</a:t>
            </a:r>
            <a:br>
              <a:rPr sz="28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chitect, WebSphere Tools for Automated Build and Deployment</a:t>
            </a:r>
            <a:br>
              <a:rPr sz="24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BF053B-C4DE-4A65-9F17-75D4D649DB8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9280" y="62028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Automated Deployment Example</a:t>
            </a: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91440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t i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complete real-world example of the most common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erty file driven, with deploy/utility scriptlets (set Attributes, et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sibly re-usable for many customers (at least a starting poi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5.0+ JACL Script 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example to exploit and leverage much of what exists to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t is NOT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a totally generic solution suitable to all customers / purpo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pecially not “Continuous-Availability” with apriori work re-rou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something that exercises or explains all functions or all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something providing rollback (must redeploy previous deployme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production ready (minimal error/exception handling and/or recover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 not enable/exploit security or setup server re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3A432C-B78D-4445-A478-4CD07D42588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871200"/>
            <a:ext cx="91440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Automated Deployment - Typical User Deployment Flow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79280" y="5229360"/>
            <a:ext cx="201636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velop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411280" y="5229360"/>
            <a:ext cx="201636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velop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68360" y="1844640"/>
            <a:ext cx="201600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teg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68360" y="3139920"/>
            <a:ext cx="201600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teg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635280" y="2492280"/>
            <a:ext cx="201636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QA / Pil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948360" y="1771560"/>
            <a:ext cx="201636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du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ell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948360" y="2997360"/>
            <a:ext cx="2016360" cy="86328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du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ell 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 flipV="1">
            <a:off x="2195640" y="4005360"/>
            <a:ext cx="1008000" cy="12240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55640" y="4005360"/>
            <a:ext cx="503280" cy="12240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2484360" y="3068280"/>
            <a:ext cx="1150920" cy="57636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484360" y="2276640"/>
            <a:ext cx="1150920" cy="50292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651640" y="2060280"/>
            <a:ext cx="1296720" cy="64764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651640" y="3068640"/>
            <a:ext cx="1296720" cy="28728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908000" y="4508640"/>
            <a:ext cx="244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ploy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age=Integr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835280" y="3284640"/>
            <a:ext cx="2447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ploy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age=Pilo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788000" y="3139920"/>
            <a:ext cx="244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ploy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age=Produ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1619280" y="2707920"/>
            <a:ext cx="1657440" cy="259236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684360" y="2707920"/>
            <a:ext cx="792000" cy="252108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A0EE5C-AF51-4994-A168-5A7FD5ADCB7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-360" y="620280"/>
            <a:ext cx="932508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7889fb"/>
                </a:solidFill>
                <a:latin typeface="Arial"/>
              </a:rPr>
              <a:t>Automated Deployment Example - Objective</a:t>
            </a:r>
            <a:endParaRPr b="0" lang="en-US" sz="3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-360" y="1196640"/>
            <a:ext cx="87850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Automated Build example result (AdderEA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2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va + EJB + EJBclient + WAR + AppClient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exible ope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iven with multiple (dynamic) sets of 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 different user environments (stag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erty file driven customization of EARs and their modu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itial ‘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instal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 to server or cluster in Network Deployment C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2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 optimized install/update to multiple cluster/server targ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-deployment ‘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updat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 of updated EA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algorithm assists 7x24 high-avail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ds towards v6 Cluster-Update fu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ds towards v6 Continuous-Availability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e check of resulting application (started and correct URL respons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so ‘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onfir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 existing installation, or ‘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uninstal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A504FE-C042-4CDA-9991-8908662158B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50560" y="549360"/>
            <a:ext cx="889308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889fb"/>
                </a:solidFill>
                <a:latin typeface="Arial"/>
              </a:rPr>
              <a:t>Deployment Example – Command and Inputs</a:t>
            </a:r>
            <a:endParaRPr b="0" lang="en-US" sz="3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266920" y="4292640"/>
            <a:ext cx="3152880" cy="172872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EarN-StageX.Targe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de1 Server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uster-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78560" y="4292640"/>
            <a:ext cx="3168720" cy="172872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EarN-StageX.Settin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ame1=Value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ameN=Valu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851280" y="1916280"/>
            <a:ext cx="3124080" cy="165708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Distribution Direct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ar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a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1" idx="0"/>
            <a:endCxn id="123" idx="2"/>
          </p:cNvCxnSpPr>
          <p:nvPr/>
        </p:nvCxnSpPr>
        <p:spPr>
          <a:xfrm flipV="1">
            <a:off x="3843000" y="3573000"/>
            <a:ext cx="1570680" cy="72000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 flipH="1" flipV="1">
            <a:off x="5435280" y="3428640"/>
            <a:ext cx="1560600" cy="863640"/>
          </a:xfrm>
          <a:prstGeom prst="line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1" idx="0"/>
            <a:endCxn id="125" idx="0"/>
          </p:cNvCxnSpPr>
          <p:nvPr/>
        </p:nvCxnSpPr>
        <p:spPr>
          <a:xfrm flipV="1">
            <a:off x="3843000" y="3428280"/>
            <a:ext cx="1594440" cy="864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322200" y="1844640"/>
            <a:ext cx="2808360" cy="1728720"/>
          </a:xfrm>
          <a:prstGeom prst="rect">
            <a:avLst/>
          </a:prstGeom>
          <a:solidFill>
            <a:srgbClr val="ffffff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Deploy Comma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DistributionDirecto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Action (install, update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firm, uninstal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Environment  (Stag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FAA5E0-6ADF-4048-AD74-D8F08C1F9A9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50560" y="549360"/>
            <a:ext cx="889308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889fb"/>
                </a:solidFill>
                <a:latin typeface="Arial"/>
              </a:rPr>
              <a:t>Deployment Targets (Generic)</a:t>
            </a:r>
            <a:endParaRPr b="0" lang="en-US" sz="3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20720" y="2060640"/>
            <a:ext cx="147636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340000" y="2060640"/>
            <a:ext cx="151128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pplication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924360" y="2060640"/>
            <a:ext cx="151128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pplication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508720" y="2060640"/>
            <a:ext cx="143964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90560" y="1916280"/>
            <a:ext cx="286380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90560" y="1484280"/>
            <a:ext cx="28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ode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863640" y="1484280"/>
            <a:ext cx="2916360" cy="35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Node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24360" y="1916280"/>
            <a:ext cx="459720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4360" y="1484280"/>
            <a:ext cx="459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ode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997440" y="1484280"/>
            <a:ext cx="4680000" cy="35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Node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359080" y="3645000"/>
            <a:ext cx="3076560" cy="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556000" y="3645000"/>
            <a:ext cx="276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ode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556000" y="3716280"/>
            <a:ext cx="2808000" cy="35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Cluster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92000" y="4149720"/>
            <a:ext cx="7309080" cy="151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1 targets: Node-1/Server-1 plus Cluster-1 (N1S2+N2S3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Application-2 targets: Cluster-1 (Node-1/Server-2 plus Node-2/Server-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3 targets: Node-1/Server-1 plus Node-2/Server-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Application-4 targets: Node-2/Server-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093080" y="2060640"/>
            <a:ext cx="143964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pplication-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1FBE65-86BA-4D05-A79C-C72E63AC02C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8920" y="692280"/>
            <a:ext cx="866628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Deployment Example – Target Properties</a:t>
            </a: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8000" y="1557000"/>
            <a:ext cx="885672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 multiple: nodeserver=nodeName,server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 multiple: cluster=cluster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odeserver = myNode,server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uster = myClust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 multiple: testURL = UR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 multiple: testResult = result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estURL = http://myHost:9081/AdderWAR/AdderTest.j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estResponse = Java adder(3,4) = 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estURL = http://myHost:9085/AdderWAR/AdderTest.j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estResponse = EJBsessionbean adder(5,6) = 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197357-491F-46E3-BCAD-EA508F6324C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549360"/>
            <a:ext cx="898992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Deployment Example – </a:t>
            </a:r>
            <a:r>
              <a:rPr b="0" lang="en-US" sz="3200" spc="-1" strike="noStrike">
                <a:solidFill>
                  <a:srgbClr val="7889fb"/>
                </a:solidFill>
                <a:latin typeface="Arial"/>
              </a:rPr>
              <a:t>Settings</a:t>
            </a: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 Properties</a:t>
            </a: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50920" y="1413000"/>
            <a:ext cx="69134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Adder application 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pplicationName=Adder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artingWeight=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warClassLoaderPolicy=SI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Adder webmodule W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oduleName=AdderWAR.w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artingWeight=121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lassloaderMode=PARENT_L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814A07-3904-4A85-8267-C2750396557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8920" y="475920"/>
            <a:ext cx="87138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889fb"/>
                </a:solidFill>
                <a:latin typeface="Arial"/>
              </a:rPr>
              <a:t>Deployment Example – Update Algorithm</a:t>
            </a:r>
            <a:endParaRPr b="0" lang="en-US" sz="3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91440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 (or Cron monitor) invocation with DistributionDir/Stage/Cell/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cate EARs and their matching “Stage” Target/Settings proper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te all affected nodes/servers/applications (using Target properti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Verify current configuration (nodes/servers/applications exist/availa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itialize all affected nodes (save AutoSync settings then set to fals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all/Update applications (set settings, set targets, Future: resources, et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timized phased-node distribution (assist 7x24 application availabilit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25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p AffectedNodeServers, syncNode, restart AffectedNodeSer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25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okPoint: User Plugin-cfg.xml workflow re-rout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tore all affected nodes (restore saved AutoSync setting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tVerify started applications (read web page to check resul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ve EARs+properties into “deployed” repository (or “failed” repositor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DCBF6D-2D5A-4D93-B5C7-0276041C6A4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6T15:24:39Z</dcterms:created>
  <dc:creator>chng1me</dc:creator>
  <dc:description/>
  <dc:language>en-US</dc:language>
  <cp:lastModifiedBy>searle</cp:lastModifiedBy>
  <dcterms:modified xsi:type="dcterms:W3CDTF">2006-02-14T20:33:25Z</dcterms:modified>
  <cp:revision>178</cp:revision>
  <dc:subject/>
  <dc:title>Production(Unattended) Builds and Deployments</dc:title>
</cp:coreProperties>
</file>